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58DC-1473-41A5-BA4E-FD0A03306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BBA3-7F36-4285-B224-CC621F63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AC00-ABF6-4E4C-8D2D-1D32DEB30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42A6-39F9-42DF-AC9B-184CC858A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69DF-D1C2-477B-96BF-94350AA8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53D4-F057-4311-951B-14A2D240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5326-7E9B-4758-AD60-E80D1BD9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0CD5-3AE6-4CD5-8BF6-5379E2A0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F3BC-FB40-415C-A02D-E1855F1E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81C4-1613-46C9-BB16-96CEFE59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AE8D-8548-420A-8B0E-5854816C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4E9E-2223-435C-BC11-DC54FC45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9A7E-3A91-44EA-86D2-0CA7D43E286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428760" cy="3808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900360" y="219240"/>
            <a:ext cx="221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Лоция Соф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Торговая компания </a:t>
            </a:r>
            <a:br>
              <a:rPr sz="4400"/>
            </a:b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«Берингов пролив»</a:t>
            </a:r>
            <a:br>
              <a:rPr sz="4400"/>
            </a:b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Повышение эффективности товарооборота в 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Lotsia ERP</a:t>
            </a: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 (Координатор)</a:t>
            </a:r>
            <a:r>
              <a:rPr b="1" lang="ru-RU" sz="4400" spc="-1" strike="noStrike">
                <a:solidFill>
                  <a:srgbClr val="ffffff"/>
                </a:solidFill>
                <a:latin typeface="Times New Roman Cyr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47920" y="4343400"/>
            <a:ext cx="6248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сентября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200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5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imes New Roman Cyr"/>
              </a:rPr>
              <a:t>Управление ценообразование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1125000"/>
            <a:ext cx="899172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Торговля в регионах по разным цена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Контроль наценки и убытков при перемещении в Филиал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Сверка магазинов в разрезе количественного и суммового учёто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4 Лоция Софт http://www.lotsi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6E16-4A2F-4075-9EEF-D779A5B3730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.01.2004</a:t>
            </a:r>
          </a:p>
        </p:txBody>
      </p:sp>
    </p:spTree>
  </p:cSld>
  <p:transition>
    <p:blinds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00"/>
                </a:solidFill>
                <a:latin typeface="Times New Roman Cyr"/>
              </a:rPr>
              <a:t>Обслуживание потребителя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ы считаем, что покупателя привлекает не только ассортимент и цена на товар, но и качество обслуживания. Кроме мерчандайзинга в магазине, который практически не подлежит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втоматизации, мы решили задачу скорости обслужива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 Cy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 Cyr"/>
              </a:rPr>
              <a:t>Оформление покупки осуществляет продаве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 Cy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 Cyr"/>
              </a:rPr>
              <a:t>Печать мягкого чека одновременно для покупателя и для скла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 Cy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 Cyr"/>
              </a:rPr>
              <a:t>Печать товарного ч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3357720"/>
            <a:ext cx="9144000" cy="350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4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C4DE-A5F6-4F63-A556-7079F6508D5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.01.2004</a:t>
            </a: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16000" y="216000"/>
            <a:ext cx="874872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00"/>
                </a:solidFill>
                <a:latin typeface="Times New Roman Cyr"/>
              </a:rPr>
              <a:t>Методы мотивации персонала сбытовых подразделений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вязка продаж к сотруднику инициирующего продаж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нализ продаж продавцами това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 Cy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 Cyr"/>
              </a:rPr>
              <a:t>Выявление по отделам лучших сотрудни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 Cy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 Cyr"/>
              </a:rPr>
              <a:t>Определение для продавцов уровня наценки на това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 Cy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 Cyr"/>
              </a:rPr>
              <a:t>Дополнительная мотивация продавцов на продажу некондиционного товара и товара с большей наценк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4 Лоция Софт http://www.lotsia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79BD-07CD-4545-8BF6-DFB0464DD20A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.01.2004</a:t>
            </a: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15920"/>
            <a:ext cx="9144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Times New Roman Cyr"/>
              </a:rPr>
              <a:t>Взаимодействие с оптовой компание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деление Б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заиморасчеты клиент-покупат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Централизованные справочн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 Cy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</a:rPr>
              <a:t>Автоматизация расчета ЗП менеджер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4 Лоция Софт http://www.lotsia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F969-C634-4936-95AA-A52F84AEDC39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.01.2004</a:t>
            </a: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cc00"/>
                </a:solidFill>
                <a:latin typeface="Times New Roman"/>
              </a:rPr>
              <a:t>Результаты внедрения программного продукты </a:t>
            </a:r>
            <a:r>
              <a:rPr b="1" lang="en-US" sz="3800" spc="-1" strike="noStrike">
                <a:solidFill>
                  <a:srgbClr val="ffcc00"/>
                </a:solidFill>
                <a:latin typeface="Times New Roman"/>
              </a:rPr>
              <a:t>Lotsia ERP </a:t>
            </a:r>
            <a:r>
              <a:rPr b="1" lang="ru-RU" sz="3800" spc="-1" strike="noStrike">
                <a:solidFill>
                  <a:srgbClr val="ffcc00"/>
                </a:solidFill>
                <a:latin typeface="Times New Roman"/>
              </a:rPr>
              <a:t>«Координатор»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752480"/>
            <a:ext cx="9144000" cy="44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 Cyr"/>
              </a:rPr>
              <a:t>Высвобождение оборотных средств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</a:rPr>
              <a:t>Контроль ассортимента товара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</a:rPr>
              <a:t>Управление товарными запасами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</a:rPr>
              <a:t>Получение оперативных данных о продажах, остатках, возвратах по фирме в целом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</a:rPr>
              <a:t>Увеличение качества обслуживания покупателя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 Cyr"/>
              </a:rPr>
              <a:t>Увеличении прибыли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 Cyr"/>
              </a:rPr>
              <a:t>Возможность более быстрого расширения розничной сети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4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925D-9F5B-4C6C-BBCB-540BCE94C25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.01.2004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c00"/>
                </a:solidFill>
                <a:latin typeface="Times New Roman"/>
              </a:rPr>
              <a:t>Перспективы развития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219320"/>
            <a:ext cx="91440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 Cyr"/>
              </a:rPr>
              <a:t>Повышение качества управления за счет</a:t>
            </a:r>
            <a:r>
              <a:rPr b="0" lang="en-US" sz="3100" spc="-1" strike="noStrike">
                <a:solidFill>
                  <a:srgbClr val="ffffff"/>
                </a:solidFill>
                <a:latin typeface="Times New Roman Cyr"/>
              </a:rPr>
              <a:t> </a:t>
            </a:r>
            <a:r>
              <a:rPr b="0" lang="ru-RU" sz="3100" spc="-1" strike="noStrike">
                <a:solidFill>
                  <a:srgbClr val="ffffff"/>
                </a:solidFill>
                <a:latin typeface="Times New Roman Cyr"/>
              </a:rPr>
              <a:t>развития бюджетирования и планирования статей расходов в разрезе центров ответственности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 Cyr"/>
              </a:rPr>
              <a:t>Дальнейшее развитие розничной сети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 Cyr"/>
              </a:rPr>
              <a:t>Автоматизация еще неохваченных направлений деятельности холдинга (пенобетон, жалюзи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 Cyr"/>
              </a:rPr>
              <a:t>Автоматизация рабочего места главного кассира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 Cyr"/>
              </a:rPr>
              <a:t>Автоматическое формирование расходных накладных на основе отчётов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 Cyr"/>
              </a:rPr>
              <a:t>Тонкая настройка рабочих мест за счет  использования скриптов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4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959A-5B7B-4605-BD75-BF5B88E7742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.01.2004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2361960"/>
            <a:ext cx="7696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imes New Roman Cyr"/>
              </a:rPr>
              <a:t>Спасибо за внимание!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4400" spc="-1" strike="noStrike">
                <a:solidFill>
                  <a:srgbClr val="ffcc00"/>
                </a:solidFill>
                <a:latin typeface="Times New Roman Cyr"/>
              </a:rPr>
              <a:t>h</a:t>
            </a:r>
            <a:r>
              <a:rPr b="1" lang="en-US" sz="4400" spc="-1" strike="noStrike">
                <a:solidFill>
                  <a:srgbClr val="ffcc00"/>
                </a:solidFill>
                <a:latin typeface="Times New Roman Cyr"/>
              </a:rPr>
              <a:t>ttp://www.beringov.c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4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DA7F-29F1-403D-9481-298342F8F07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.01.2004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96472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 Cyr"/>
              </a:rPr>
              <a:t>Основные проблемы, </a:t>
            </a:r>
            <a:br>
              <a:rPr sz="3600"/>
            </a:br>
            <a:r>
              <a:rPr b="1" lang="ru-RU" sz="3600" spc="-1" strike="noStrike">
                <a:solidFill>
                  <a:srgbClr val="ffcc00"/>
                </a:solidFill>
                <a:latin typeface="Times New Roman Cyr"/>
              </a:rPr>
              <a:t>стоящие перед управленц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еративно и достоверно получать информацию о финансово-хозяйственной деятельности предприятия с целью оперативного реагирования на измен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правлять товарным запасом и продажами в цел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правлять закупками или производств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правлять экономикой и финанс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правлять региональными подразделения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тивация персонала сбытовых подраздел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4 Лоция Софт http://www.lotsi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CA74-809B-44A4-AEFB-BDA0EA0D838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.01.2004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9000"/>
            <a:ext cx="896472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 Cyr"/>
              </a:rPr>
              <a:t>Торговая компания Берингов проли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28800"/>
            <a:ext cx="914400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мпания «Берингов Пролив» представляет собой Холдинг, который включает предприятия оптовой и розничной торговли бытовой техники и продуктов питания, предприятия производства бетона, пеноблоков и  жалюз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К Берингов пролив представлена в 11 регионах московской обла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4 Лоция Софт http://www.lotsia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DE17-EEB8-435B-8F49-97F89E866245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.01.2004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 Cyr"/>
              </a:rPr>
              <a:t>Как позиционируется </a:t>
            </a:r>
            <a:r>
              <a:rPr b="1" lang="en-US" sz="3600" spc="-1" strike="noStrike">
                <a:solidFill>
                  <a:srgbClr val="ffcc00"/>
                </a:solidFill>
                <a:latin typeface="Times New Roman Cyr"/>
              </a:rPr>
              <a:t>Lotsia ER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Крупные и средние компани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Территориально-распределенные предприятия (в т.ч. проектные и сбытовые организации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Оптово-розничные структур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Торгово-производственные фирм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Предприятия, которым требуется комплексное решение задач автоматизаци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Холдинговые структур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Компании со сложными схемами учета и аналитик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Предприятия, которым нужно рабочее решение за разумные деньг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Надежность Б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4 Лоция Софт http://www.lotsi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BC25-15D3-4A6A-ACD5-D545C7D4E2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.01.2004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 Cyr"/>
              </a:rPr>
              <a:t>Этапы и проблемы внедрения </a:t>
            </a:r>
            <a:r>
              <a:rPr b="1" lang="en-US" sz="3600" spc="-1" strike="noStrike">
                <a:solidFill>
                  <a:srgbClr val="ffcc00"/>
                </a:solidFill>
                <a:latin typeface="Times New Roman Cyr"/>
              </a:rPr>
              <a:t>Lotsia ER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2349000"/>
            <a:ext cx="9144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 Cyr"/>
              </a:rPr>
              <a:t>Поэтапность внедрения программного продукта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</a:rPr>
              <a:t>Сопротивление пользователей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 Cyr"/>
              </a:rPr>
              <a:t>Существующая система автоматизации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</a:rPr>
              <a:t>Обработка данных в реальном времени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</a:rPr>
              <a:t>Удалённость подразделений предприятия от ЦО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 Cyr"/>
              </a:rPr>
              <a:t>Удовлетворённость потребностей руководства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4 Лоция Софт http://www.lotsi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AF8C-02D2-47CB-9DC0-D0743DFF95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.01.2004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cc00"/>
                </a:solidFill>
                <a:latin typeface="Times New Roman"/>
              </a:rPr>
              <a:t>Результаты внедрения и эксплуатации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800"/>
            </a:br>
            <a:r>
              <a:rPr b="1" lang="ru-RU" sz="3800" spc="-1" strike="noStrike">
                <a:solidFill>
                  <a:srgbClr val="ffcc00"/>
                </a:solidFill>
                <a:latin typeface="Times New Roman Cyr"/>
              </a:rPr>
              <a:t>программного продукта </a:t>
            </a:r>
            <a:r>
              <a:rPr b="1" lang="en-US" sz="3800" spc="-1" strike="noStrike">
                <a:solidFill>
                  <a:srgbClr val="ffcc00"/>
                </a:solidFill>
                <a:latin typeface="Times New Roman Cyr"/>
              </a:rPr>
              <a:t>Lotsia ERP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52480"/>
            <a:ext cx="9144000" cy="44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 Cyr"/>
              </a:rPr>
              <a:t>Увеличение скорости обмена данными между филиалами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</a:rPr>
              <a:t>Управление скоростью продаж и оборачиваемостью товарного запаса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 Cyr"/>
              </a:rPr>
              <a:t>Управление ассортиментом и каналами сбыта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</a:rPr>
              <a:t>Управление ценообразованием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</a:rPr>
              <a:t>Уменьшение времени обслуживания потребителя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 Cyr"/>
              </a:rPr>
              <a:t>Разработка методов мотивации сотрудников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4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8EFF-BA1C-4686-815F-8394E31353B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.01.2004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-360" y="6094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Times New Roman Cyr"/>
              </a:rPr>
              <a:t>Увеличение скорости обмена данными между филиалами за счет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 Cy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 Cyr"/>
              </a:rPr>
              <a:t>Использования Транспортной утилиты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 Cy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 Cyr"/>
              </a:rPr>
              <a:t>Разработан скрипт для отправки данных в филиалы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 Cy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 Cyr"/>
              </a:rPr>
              <a:t>В Филиалах введена автоматическая отправка данных о продажах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 Cy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 Cyr"/>
              </a:rPr>
              <a:t>Автоматическое распаковывание файла-пакет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 Cy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 Cyr"/>
              </a:rPr>
              <a:t>Автоматическая загрузка файлов обмена с заданной периодичностью в центральный офи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4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9D1B-DA45-474A-BA52-01B38B88B26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.01.2004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484280"/>
            <a:ext cx="914400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 Cyr"/>
              </a:rPr>
              <a:t>За счет изменения скорости продаж мы можем получать дополнительный доход либо за счет оборота, либо за счет увеличения маржи с единицы товара. Это всегда является дилеммой для службы сбыта и выбор стратегии зависит от конкретного периода времени и финансового состояния предприятия. Так же большое значение имеет ассортиментный остаток необходимого на заданный период торговли товара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 Cyr"/>
              </a:rPr>
              <a:t>Товара в магазине должно быть не больше не меньше</a:t>
            </a:r>
            <a:r>
              <a:rPr b="0" lang="ru-RU" sz="3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ffff00"/>
                </a:solidFill>
                <a:latin typeface="Times New Roman Cyr"/>
              </a:rPr>
              <a:t>Увеличение скорости продаж и оборачиваемости товарного запаса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4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7F29-BB41-4D80-9F22-34215AF0D7D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.01.2004</a:t>
            </a:r>
          </a:p>
        </p:txBody>
      </p:sp>
    </p:spTree>
  </p:cSld>
  <p:transition>
    <p:blinds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24000" y="144360"/>
            <a:ext cx="8632800" cy="24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imes New Roman Cyr"/>
              </a:rPr>
              <a:t>Управление ассортиментом и каналами сбыт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обязать менеджера быстро реагировать  на не достающий товар в магазинах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роме скорости продаж, необходимо поддерживать широкий ассортимент, оперативно поставлять новинки, отслеживать покупательский спрос по бренда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3492720" cy="4292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1997-2004 Лоция Софт http://www.lotsi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92C1-A373-44C8-8D2F-98631C65FB0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.01.2004</a:t>
            </a:r>
          </a:p>
        </p:txBody>
      </p:sp>
    </p:spTree>
  </p:cSld>
  <p:transition>
    <p:blinds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19:54:01Z</dcterms:created>
  <dc:creator/>
  <dc:description/>
  <dc:language>en-US</dc:language>
  <cp:lastModifiedBy> </cp:lastModifiedBy>
  <dcterms:modified xsi:type="dcterms:W3CDTF">2005-09-22T08:48:28Z</dcterms:modified>
  <cp:revision>381</cp:revision>
  <dc:subject/>
  <dc:title>Комплексная автоматизация многопрофильных, территориально-распределенных предприятий на базе ERP системы Lotsia ER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79671323</vt:r8>
  </property>
  <property fmtid="{D5CDD505-2E9C-101B-9397-08002B2CF9AE}" pid="3" name="_AuthorEmail">
    <vt:lpwstr>shumilin@beringov.com</vt:lpwstr>
  </property>
  <property fmtid="{D5CDD505-2E9C-101B-9397-08002B2CF9AE}" pid="4" name="_AuthorEmailDisplayName">
    <vt:lpwstr>Сергей Н. Шумилин</vt:lpwstr>
  </property>
  <property fmtid="{D5CDD505-2E9C-101B-9397-08002B2CF9AE}" pid="5" name="_EmailSubject">
    <vt:lpwstr>Re[20]: Презентация</vt:lpwstr>
  </property>
  <property fmtid="{D5CDD505-2E9C-101B-9397-08002B2CF9AE}" pid="6" name="_PreviousAdHocReviewCycleID">
    <vt:r8>1567835290</vt:r8>
  </property>
</Properties>
</file>