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513C-4A46-4AD8-B6A6-8C27F07E6E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ый скелет ЖЦ и место ЗЭМ в общей сх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ь отношения между ГКБ и ЗЭ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41C5-657A-4F98-A127-A1C6A8D6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681F-B999-4302-938C-FDB531DF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38352-BB5E-4537-9ACD-4E8EFA82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89B7-BC02-4E3D-962F-BF695928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EB63-9AF3-44E9-8610-96E4395C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8C49-DE92-46D6-8A37-E60FEF5C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932F-9ED3-477B-9A25-791578B3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3848-CF42-491C-A6E6-462EAE45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7514-74C1-45E8-B569-61CE51D0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27C4-7320-48DF-839D-51548B5A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6F48-37AC-4D84-ADE8-DE7EBDF8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CCD8F-F5FD-47E2-AF42-2123F6A8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19FD-286C-4382-BBC5-C380220F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148A-EF50-43AF-8371-C8F7ADC9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807F-6A1A-4AC0-8993-54FF9F12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EE53-CF5D-4BD9-AA9E-643E7468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AE07-2E33-4DC1-9EBE-28EF31A3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A99B-5580-4EDC-81CA-CD83C185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46B7-31F8-4737-8B75-A60BCFCD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4D72-A2D0-46D0-A616-B0AA9D56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EE91-011B-4D42-9D2A-E065ADDD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FA8C-3635-429C-A8A9-915D4EC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388E9-E163-4006-B600-C3EE1D55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B373-97F7-4288-BB3B-E3FF8595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E2AA-FC86-489E-9830-43DD1AF22E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CB8C-59F0-4B32-B0F8-4EBBAD7487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Система информационной поддержки жизненного цикла изделий ЗЭМ РКК «Энергия»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(1-я очередь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умароков С.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Заместитель директора по производству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юк О.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ачальник отдел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Корпоративные электронные системы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КЭЛС-центр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Технологическая документац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1652760"/>
          <a:ext cx="7775280" cy="47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52760"/>
                    <a:ext cx="7775280" cy="47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Форма «Состав изделия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4200" y="1600200"/>
            <a:ext cx="763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Форма «МРВ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3120" y="1600200"/>
            <a:ext cx="799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орма «Справочник материалов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01840" y="1600200"/>
            <a:ext cx="634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правление потоком рабо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Управление потоком работ – управление передачей данных, документов и задач между участниками проект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a886e0"/>
              </a:buClr>
              <a:buSzPct val="9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строение шаблона процесса в электронном вид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a886e0"/>
              </a:buClr>
              <a:buSzPct val="9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лучение подписи каждого сотрудника после выполнения им своего этап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a886e0"/>
              </a:buClr>
              <a:buSzPct val="9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тслеживание руководством хода проект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a886e0"/>
              </a:buClr>
              <a:buSzPct val="9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нтроль взаимозависимости рабо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-720" y="3809880"/>
            <a:ext cx="5191560" cy="2895480"/>
            <a:chOff x="-720" y="3809880"/>
            <a:chExt cx="5191560" cy="28954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74680" y="4035240"/>
              <a:ext cx="384660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500120" y="3809880"/>
              <a:ext cx="1482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Подготовить папку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720" y="4419360"/>
              <a:ext cx="1047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Предложе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00240" y="3870000"/>
              <a:ext cx="1328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Проектирова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38640" y="4593960"/>
              <a:ext cx="671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Анализ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03320" y="5317920"/>
              <a:ext cx="7524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Ошибк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76720" y="5679720"/>
              <a:ext cx="1014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одификаци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61840" y="5619600"/>
              <a:ext cx="969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Утверждени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-720" y="4895640"/>
              <a:ext cx="665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Выпус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87440" y="4571640"/>
              <a:ext cx="37296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3360" y="4352760"/>
              <a:ext cx="392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08320" y="4533840"/>
              <a:ext cx="260280" cy="42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42800" y="5619600"/>
              <a:ext cx="195480" cy="30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673000" y="6222600"/>
              <a:ext cx="58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499760" y="5739840"/>
              <a:ext cx="39060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717120" y="5016240"/>
              <a:ext cx="392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20800" y="5438520"/>
              <a:ext cx="587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257800" y="464832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gradFill rotWithShape="0">
            <a:gsLst>
              <a:gs pos="0">
                <a:srgbClr val="0099cc"/>
              </a:gs>
              <a:gs pos="100000">
                <a:srgbClr val="0083a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410080" y="2895480"/>
            <a:ext cx="3124440" cy="3657600"/>
            <a:chOff x="5410080" y="2895480"/>
            <a:chExt cx="3124440" cy="3657600"/>
          </a:xfrm>
        </p:grpSpPr>
        <p:sp>
          <p:nvSpPr>
            <p:cNvPr id="160" name=""/>
            <p:cNvSpPr/>
            <p:nvPr/>
          </p:nvSpPr>
          <p:spPr>
            <a:xfrm>
              <a:off x="6857640" y="2895480"/>
              <a:ext cx="144792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8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Разработ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чертеж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8880" y="4648320"/>
              <a:ext cx="685800" cy="363240"/>
            </a:xfrm>
            <a:prstGeom prst="diamond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dbaf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7640" y="5257800"/>
              <a:ext cx="144792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8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Утвержд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технолог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019920"/>
              <a:ext cx="1447560" cy="53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8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Передача 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архи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"/>
            <p:cNvCxnSpPr>
              <a:stCxn id="160" idx="2"/>
              <a:endCxn id="165" idx="0"/>
            </p:cNvCxnSpPr>
            <p:nvPr/>
          </p:nvCxnSpPr>
          <p:spPr>
            <a:xfrm flipV="1" rot="10800000">
              <a:off x="7580880" y="3428640"/>
              <a:ext cx="1080" cy="30564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6" name=""/>
            <p:cNvCxnSpPr>
              <a:stCxn id="161" idx="2"/>
              <a:endCxn id="162" idx="0"/>
            </p:cNvCxnSpPr>
            <p:nvPr/>
          </p:nvCxnSpPr>
          <p:spPr>
            <a:xfrm flipV="1" rot="10800000">
              <a:off x="7580880" y="5011200"/>
              <a:ext cx="1080" cy="24696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7" name=""/>
            <p:cNvCxnSpPr>
              <a:stCxn id="168" idx="1"/>
              <a:endCxn id="163" idx="3"/>
            </p:cNvCxnSpPr>
            <p:nvPr/>
          </p:nvCxnSpPr>
          <p:spPr>
            <a:xfrm rot="10800000">
              <a:off x="6856920" y="6285960"/>
              <a:ext cx="3819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9" name=""/>
            <p:cNvCxnSpPr>
              <a:stCxn id="161" idx="3"/>
              <a:endCxn id="160" idx="3"/>
            </p:cNvCxnSpPr>
            <p:nvPr/>
          </p:nvCxnSpPr>
          <p:spPr>
            <a:xfrm flipV="1">
              <a:off x="7924680" y="3161520"/>
              <a:ext cx="381600" cy="1669320"/>
            </a:xfrm>
            <a:prstGeom prst="bentConnector3">
              <a:avLst>
                <a:gd name="adj1" fmla="val 159962"/>
              </a:avLst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5" name=""/>
            <p:cNvSpPr/>
            <p:nvPr/>
          </p:nvSpPr>
          <p:spPr>
            <a:xfrm>
              <a:off x="6857640" y="3733920"/>
              <a:ext cx="1447920" cy="53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db2b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8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Утвержд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(начальник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38880" y="6095880"/>
              <a:ext cx="685800" cy="381240"/>
            </a:xfrm>
            <a:prstGeom prst="diamond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dbaf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0" name=""/>
            <p:cNvCxnSpPr>
              <a:stCxn id="162" idx="2"/>
              <a:endCxn id="168" idx="0"/>
            </p:cNvCxnSpPr>
            <p:nvPr/>
          </p:nvCxnSpPr>
          <p:spPr>
            <a:xfrm flipV="1" rot="10800000">
              <a:off x="7580880" y="5790960"/>
              <a:ext cx="1080" cy="3052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71" name=""/>
            <p:cNvCxnSpPr>
              <a:stCxn id="165" idx="2"/>
              <a:endCxn id="161" idx="0"/>
            </p:cNvCxnSpPr>
            <p:nvPr/>
          </p:nvCxnSpPr>
          <p:spPr>
            <a:xfrm flipV="1" rot="10800000">
              <a:off x="7580880" y="4266720"/>
              <a:ext cx="1080" cy="38196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72" name=""/>
            <p:cNvCxnSpPr>
              <a:stCxn id="168" idx="3"/>
              <a:endCxn id="160" idx="3"/>
            </p:cNvCxnSpPr>
            <p:nvPr/>
          </p:nvCxnSpPr>
          <p:spPr>
            <a:xfrm flipV="1">
              <a:off x="7924680" y="3161520"/>
              <a:ext cx="381600" cy="3125160"/>
            </a:xfrm>
            <a:prstGeom prst="bentConnector3">
              <a:avLst>
                <a:gd name="adj1" fmla="val 159962"/>
              </a:avLst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Процесс «Разработка ТП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1116000"/>
          <a:ext cx="914400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6000"/>
                    <a:ext cx="91440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Форма «Выбор исполнителя» в модуле управления потоками рабо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57360" y="2695680"/>
            <a:ext cx="7829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сновные отличия от АСУП ЗЭМ РКК «Энергия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став издел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аличие применяемости состава изделия по дате (а не только по машин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несение изменений в состав нескольких машин одновремен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Р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вод, изменение МРВ, генерация отчета МР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рхив техпроцессов и техпаспор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правление потоками раб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временная промышленная платформа для управления инженерными данны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нтеграция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PDM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 с АСУП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9640" y="2397240"/>
          <a:ext cx="813600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97240"/>
                    <a:ext cx="813600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Схема размещения РМ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4479840" y="3048120"/>
            <a:ext cx="1463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80880" y="1143000"/>
          <a:ext cx="8153640" cy="56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15364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ЭЛС-цент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рынк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LS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технологий с 1999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авления деятель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едрение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L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технолог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учение специалистов в области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L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технолог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учно-исследовательские работы в области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L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технологи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ект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О «ЗЭМ РКК «Энергия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истема информационной поддержки ЖЦ издел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АО «Раменский приборостроительный завод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СУ технологическим документооборот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СУ учетом отказ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АО «Раменское приборостроительное конструкторское бюро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лектронный архив конструкторской документ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екущая ситуа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ведение обследования ЗЭМ РКК «Энергия» (12.01.2004-31.03.2004): выполне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азработка проекта первой очереди СИП ЖЦИ (01.04.2004-30.06.2004): выполне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ализация первой очереди СИП ЖЦИ (01.07.2004-30.11.2004): выполнен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пытная эксплуатация и ввод первой очереди СИП ЖЦИ в промышленную эксплуатацию (01.12.2004-сентябрь 200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жидаемые организационно-экономические результа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вышение качества данных о составе издел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личие единых справочников материалов и ПКИ (включая ЭРИ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кращение времени на формирование и изменение МР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ние единого архива технологической документации цеха №44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ранение и обеспечение доступа к документации на все новые изделия, производимые на завод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кращение времени от начала разработки техпроцесса ц.444 до его утвержд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вышение оперативности информирования об изменении маршру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кращение времени на прохождение по служба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тсутствие необходимости пользоваться услугами типографии при выдаче ТП в производст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ланы развит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оработка первой очереди СИП ЖЦИ по итогам промышленной эксплуат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азовая функциональнос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еализация справочников, необходимых для ТПП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еализация интеграции с САПР «ТехноПр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хват приборного произ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здание автоматизированной системы разработки техпроцессов на основе САПР «ТехноПр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здание архива документ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хват арматурно-двигательного произ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здание архива документ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ех №44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здание автоматизированной системы разработки техпроцессов на основе САПР «ТехноПр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еализация автоматизированной разработки техпаспорт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Спасибо за внимание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ЭЛС-центр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осква, Вадковский пер., 18а, офис 151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095)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972-95-3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ww.calscenter.c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оздание СИП ЖЦИ ЗЭМ РКК «Энергия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2003 году разработана Концепция системы информационной поддержки ЖЦИ ЗЭМ РКК «Энерги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Цели создания СИП ЖЦ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окращение сроков выполнения основных рабо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окращение затрат на поиск документ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вышение информированности руко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вышение качества продук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рганизация надежного и долгосрочного хранения технической документ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рганизация электронного обмена технической документации и отечественными и зарубежными партнерами на основе международных стандар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ервая очередь СИП ЖЦ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Це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еализация базовой функциональности СИП ЖЦ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тработка основных решений СИП ЖЦ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вышение качества технической документации ЗЭМ РКК «Энергия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окращение сроков технологической подготовки произ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адач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еализация ведения состава издел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еализация ведения справочников материалов и П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еализация разработки и изменения МР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еализация архива технологической документации цеха и автоматизированных процедур ее согласования (на примере цеха №444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еализация интеграции с АСУП ЗЭМ РКК «Энергия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Автоматизация технологической подготовки производства ЗЭМ РКК "Энергия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557360"/>
          <a:ext cx="835344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35344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сновные результ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сте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DM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система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otsia PDM PLUS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(выбрана на основе тендера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стройки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DM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систем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полнительные программные модул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ршруты прохождения данных и документов (потоки работ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бочие инструк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ученные пользователи (15 человек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став программных модулей систем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азовые настрой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труктура данных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Экранная форма для просмотра задан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Модуль управления потоками работ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дуль «Состав изделия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дуль «Справочник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дуль «Маршрутно-разрезочная ведомость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дуль «Администриро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дуль интеграции системы и АСУП ЗЭМ РКК «Энергия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зделие и экземпляры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ашин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884240"/>
          <a:ext cx="76057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84240"/>
                    <a:ext cx="76057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51000"/>
            <a:ext cx="8148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Состав изделия и его экземпляров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87280" y="981000"/>
          <a:ext cx="662472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81000"/>
                    <a:ext cx="662472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43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Управление изменениям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8240" y="838080"/>
          <a:ext cx="8016840" cy="55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838080"/>
                    <a:ext cx="801684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7:06:51Z</dcterms:created>
  <dc:creator>Sumarokov</dc:creator>
  <dc:description/>
  <dc:language>en-US</dc:language>
  <cp:lastModifiedBy>-</cp:lastModifiedBy>
  <dcterms:modified xsi:type="dcterms:W3CDTF">2005-09-28T10:35:48Z</dcterms:modified>
  <cp:revision>47</cp:revision>
  <dc:subject/>
  <dc:title>Разработка первой очереди системы информационной поддержки жизненного цикла изделия ЗЭМ РКК «Энергия» на основе PDM-системы  Состояние работ</dc:title>
</cp:coreProperties>
</file>