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wmf" ContentType="image/x-wmf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448-752E-4D14-8513-469EBB18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0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024-2CE2-4522-AC34-D27571ED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03E-26AE-4796-B195-C60DA4CF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0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0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0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74E-E109-477A-87CB-2F051259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F90-118C-4C0E-A5C2-EF85E85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2A5-C7FA-4826-ADF7-8B3575B9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3A2-2536-4C98-9667-8AB9CFC7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58C-1555-4937-80F6-3BA3ACBB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E3D-848B-410A-B123-B83CC737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566-ECD3-4477-8C43-D1F22236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DE0-C6EE-49FD-B15B-0A797127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0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554-45B0-4EC5-BF84-43DB682E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822C-FFA0-45AE-805F-7260D5270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-ls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0360" y="21924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81280" y="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о материалам компании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er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втоматизированн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ая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систем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Управления документационным обеспечением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Государственной Думы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РФ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040" y="6171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 Cyr"/>
              </a:rPr>
              <a:t>Система уведомлений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95" name=""/>
          <p:cNvSpPr/>
          <p:nvPr/>
        </p:nvSpPr>
        <p:spPr>
          <a:xfrm>
            <a:off x="171936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193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1936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0496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1936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6765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о традиционных информационных рассылок используются внешние работы – бесценная возможность выполнения действий, а следовательно обновления в форме информации о приложенном докумен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тификатор – сигнализатор поступления задания – реализован  посредством отправки уведомляющего сообщения 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Текст сообщения содержи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R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ссылающийся на страницу с формой или на фай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A00-F13C-43E1-9FCD-BB46EE58BF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imes New Roman Cyr"/>
              </a:rPr>
              <a:t>Преимущество решения на платформе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 Cyr"/>
              </a:rPr>
              <a:t>Lotsia Web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57400"/>
            <a:ext cx="9144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зов функций и дан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 (PCL6)"/>
                <a:ea typeface="Times New Roman"/>
              </a:rPr>
              <a:t>(например, документов) при помощи URL (унифицированных ссылок), что позволяет легко интегрироваться в другие системы, в том числе Web-порт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можность совместной работы над документ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 (PCL6)"/>
                <a:ea typeface="Times New Roman"/>
              </a:rPr>
              <a:t>ибкость настройки платформы под решение конкретных задач заказчика (гибкость настройки Workflow и графических форм пользователей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400" spc="-1" strike="noStrike">
                <a:solidFill>
                  <a:srgbClr val="ffffff"/>
                </a:solidFill>
                <a:latin typeface="Times New Roman (PCL6)"/>
                <a:ea typeface="Times New Roman"/>
              </a:rPr>
              <a:t>ольшая часть задач заказчиков может быть реализована посредством настроек без дополнительного программиро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643-DA80-446E-863E-720CB07909B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762120"/>
          <a:ext cx="699444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699444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Принцип функционирования:</a:t>
            </a:r>
            <a:br>
              <a:rPr sz="3600"/>
            </a:br>
            <a:r>
              <a:rPr b="1" lang="en-US" sz="2800" spc="-1" strike="noStrike">
                <a:solidFill>
                  <a:srgbClr val="ffcc00"/>
                </a:solidFill>
                <a:latin typeface="Times New Roman Cyr"/>
              </a:rPr>
              <a:t>нетрадиционный взгляд на документооборот</a:t>
            </a:r>
            <a:endParaRPr b="1" lang="en-US" sz="28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ED5-2C36-40D9-8311-CB8ED5853B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imes New Roman Cyr"/>
              </a:rPr>
              <a:t>Спасибо за внимание!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Times New Roman Cyr"/>
              </a:rPr>
              <a:t>http://www.lotsia.com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 Cyr"/>
              </a:rPr>
              <a:t>http://www.lplm.ru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AF9-E3C6-456F-8A1A-1278EDF571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Решаемые задачи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3915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щение документов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net/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задания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заяв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анирование встре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14480" y="2286000"/>
            <a:ext cx="5257800" cy="4511520"/>
            <a:chOff x="114480" y="2286000"/>
            <a:chExt cx="5257800" cy="4511520"/>
          </a:xfrm>
        </p:grpSpPr>
        <p:pic>
          <p:nvPicPr>
            <p:cNvPr id="49" name="_Pict" descr=""/>
            <p:cNvPicPr/>
            <p:nvPr/>
          </p:nvPicPr>
          <p:blipFill>
            <a:blip r:embed="rId1"/>
            <a:stretch/>
          </p:blipFill>
          <p:spPr>
            <a:xfrm>
              <a:off x="114480" y="2286000"/>
              <a:ext cx="5257800" cy="45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692520" y="2324160"/>
              <a:ext cx="583920" cy="110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2520" y="2448720"/>
              <a:ext cx="58392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92520" y="2453400"/>
              <a:ext cx="5839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1F2-D86F-4D4F-9994-07840CAA3A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7-1" descr=""/>
          <p:cNvPicPr/>
          <p:nvPr/>
        </p:nvPicPr>
        <p:blipFill>
          <a:blip r:embed="rId1"/>
          <a:stretch/>
        </p:blipFill>
        <p:spPr>
          <a:xfrm>
            <a:off x="2984400" y="2647800"/>
            <a:ext cx="5705640" cy="3867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 Cyr"/>
              </a:rPr>
              <a:t>Размещение документов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55" name=""/>
          <p:cNvSpPr/>
          <p:nvPr/>
        </p:nvSpPr>
        <p:spPr>
          <a:xfrm>
            <a:off x="171936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37160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ассификация и размещение доку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мотр доку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 размещении новых документов по списку рассыл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B17-2885-4056-9587-423537F72D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 Cyr"/>
              </a:rPr>
              <a:t>Размещение документов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уктура размещенных документов 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стевой вх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9480" y="1981080"/>
            <a:ext cx="7772040" cy="4267080"/>
            <a:chOff x="609480" y="1981080"/>
            <a:chExt cx="7772040" cy="4267080"/>
          </a:xfrm>
        </p:grpSpPr>
        <p:pic>
          <p:nvPicPr>
            <p:cNvPr id="60" name="__1" descr=""/>
            <p:cNvPicPr/>
            <p:nvPr/>
          </p:nvPicPr>
          <p:blipFill>
            <a:blip r:embed="rId1"/>
            <a:stretch/>
          </p:blipFill>
          <p:spPr>
            <a:xfrm>
              <a:off x="609480" y="2384640"/>
              <a:ext cx="7772040" cy="38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594120" y="3008520"/>
              <a:ext cx="1398960" cy="316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7920" y="1981080"/>
              <a:ext cx="3963600" cy="110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2CD-96F7-4AC7-BE58-D0E03A5EAD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 Cyr"/>
              </a:rPr>
              <a:t>Работа с документами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мотр в окне брауз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иска из хранилищ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 в хранилищ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сио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а досту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полнительно к обычной форме документов архива  – форма ссылок на документы дочерних объе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288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_Pict" descr=""/>
          <p:cNvPicPr/>
          <p:nvPr/>
        </p:nvPicPr>
        <p:blipFill>
          <a:blip r:embed="rId1"/>
          <a:stretch/>
        </p:blipFill>
        <p:spPr>
          <a:xfrm>
            <a:off x="609480" y="4191120"/>
            <a:ext cx="7596360" cy="165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0DE-778D-4CAA-8ED1-02790A70CD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8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343400" cy="3146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 Cyr"/>
              </a:rPr>
              <a:t>Работа с заданиями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219320"/>
            <a:ext cx="495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дача задания исполнител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тализация зад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тверждение зад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нтроль испол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8" descr=""/>
          <p:cNvPicPr/>
          <p:nvPr/>
        </p:nvPicPr>
        <p:blipFill>
          <a:blip r:embed="rId2"/>
          <a:srcRect l="0" t="0" r="1459" b="0"/>
          <a:stretch/>
        </p:blipFill>
        <p:spPr>
          <a:xfrm>
            <a:off x="1752480" y="2514600"/>
            <a:ext cx="4038840" cy="2797200"/>
          </a:xfrm>
          <a:prstGeom prst="rect">
            <a:avLst/>
          </a:prstGeom>
          <a:ln w="0">
            <a:noFill/>
          </a:ln>
        </p:spPr>
      </p:pic>
      <p:pic>
        <p:nvPicPr>
          <p:cNvPr id="71" name="_Pict" descr=""/>
          <p:cNvPicPr/>
          <p:nvPr/>
        </p:nvPicPr>
        <p:blipFill>
          <a:blip r:embed="rId3"/>
          <a:stretch/>
        </p:blipFill>
        <p:spPr>
          <a:xfrm>
            <a:off x="4772160" y="2971800"/>
            <a:ext cx="4295520" cy="3052800"/>
          </a:xfrm>
          <a:prstGeom prst="rect">
            <a:avLst/>
          </a:prstGeom>
          <a:ln w="0">
            <a:noFill/>
          </a:ln>
        </p:spPr>
      </p:pic>
      <p:pic>
        <p:nvPicPr>
          <p:cNvPr id="72" name="_Pict" descr=""/>
          <p:cNvPicPr/>
          <p:nvPr/>
        </p:nvPicPr>
        <p:blipFill>
          <a:blip r:embed="rId4"/>
          <a:stretch/>
        </p:blipFill>
        <p:spPr>
          <a:xfrm>
            <a:off x="42840" y="4038480"/>
            <a:ext cx="3919680" cy="2748240"/>
          </a:xfrm>
          <a:prstGeom prst="rect">
            <a:avLst/>
          </a:prstGeom>
          <a:ln w="0">
            <a:noFill/>
          </a:ln>
        </p:spPr>
      </p:pic>
      <p:pic>
        <p:nvPicPr>
          <p:cNvPr id="73" name="_Pict" descr=""/>
          <p:cNvPicPr/>
          <p:nvPr/>
        </p:nvPicPr>
        <p:blipFill>
          <a:blip r:embed="rId5"/>
          <a:stretch/>
        </p:blipFill>
        <p:spPr>
          <a:xfrm>
            <a:off x="3962520" y="5638680"/>
            <a:ext cx="5105160" cy="116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4F5-655C-41C9-8B42-555BCCB31B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 Cyr"/>
              </a:rPr>
              <a:t>Работа с заявками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219320"/>
            <a:ext cx="495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формление заявок, в т.ч. госте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правка на испол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анирование испол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нтроль испол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_Pict" descr=""/>
          <p:cNvPicPr/>
          <p:nvPr/>
        </p:nvPicPr>
        <p:blipFill>
          <a:blip r:embed="rId1"/>
          <a:stretch/>
        </p:blipFill>
        <p:spPr>
          <a:xfrm>
            <a:off x="0" y="1343160"/>
            <a:ext cx="3819600" cy="1400040"/>
          </a:xfrm>
          <a:prstGeom prst="rect">
            <a:avLst/>
          </a:prstGeom>
          <a:ln w="0">
            <a:noFill/>
          </a:ln>
        </p:spPr>
      </p:pic>
      <p:pic>
        <p:nvPicPr>
          <p:cNvPr id="77" name="6" descr=""/>
          <p:cNvPicPr/>
          <p:nvPr/>
        </p:nvPicPr>
        <p:blipFill>
          <a:blip r:embed="rId2"/>
          <a:stretch/>
        </p:blipFill>
        <p:spPr>
          <a:xfrm>
            <a:off x="0" y="2629080"/>
            <a:ext cx="5410080" cy="4111560"/>
          </a:xfrm>
          <a:prstGeom prst="rect">
            <a:avLst/>
          </a:prstGeom>
          <a:ln w="0">
            <a:noFill/>
          </a:ln>
        </p:spPr>
      </p:pic>
      <p:pic>
        <p:nvPicPr>
          <p:cNvPr id="78" name="_Pict" descr=""/>
          <p:cNvPicPr/>
          <p:nvPr/>
        </p:nvPicPr>
        <p:blipFill>
          <a:blip r:embed="rId3"/>
          <a:stretch/>
        </p:blipFill>
        <p:spPr>
          <a:xfrm>
            <a:off x="4876920" y="2895480"/>
            <a:ext cx="4267080" cy="2233800"/>
          </a:xfrm>
          <a:prstGeom prst="rect">
            <a:avLst/>
          </a:prstGeom>
          <a:ln w="0">
            <a:noFill/>
          </a:ln>
        </p:spPr>
      </p:pic>
      <p:pic>
        <p:nvPicPr>
          <p:cNvPr id="79" name="_Pict" descr=""/>
          <p:cNvPicPr/>
          <p:nvPr/>
        </p:nvPicPr>
        <p:blipFill>
          <a:blip r:embed="rId4"/>
          <a:stretch/>
        </p:blipFill>
        <p:spPr>
          <a:xfrm>
            <a:off x="3438360" y="5029200"/>
            <a:ext cx="570564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50A-1DA9-48D0-97CE-480BB6EE96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 Cyr"/>
              </a:rPr>
              <a:t>Планирование встреч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066680"/>
            <a:ext cx="4419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сылка пригла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ормирование графика встреч и персональных собы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дтверждение (отказ от) учас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помин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_Pict" descr=""/>
          <p:cNvPicPr/>
          <p:nvPr/>
        </p:nvPicPr>
        <p:blipFill>
          <a:blip r:embed="rId1"/>
          <a:stretch/>
        </p:blipFill>
        <p:spPr>
          <a:xfrm>
            <a:off x="0" y="1185840"/>
            <a:ext cx="4800600" cy="2852640"/>
          </a:xfrm>
          <a:prstGeom prst="rect">
            <a:avLst/>
          </a:prstGeom>
          <a:ln w="0">
            <a:noFill/>
          </a:ln>
        </p:spPr>
      </p:pic>
      <p:pic>
        <p:nvPicPr>
          <p:cNvPr id="83" name="_Pict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3985920" cy="2524320"/>
          </a:xfrm>
          <a:prstGeom prst="rect">
            <a:avLst/>
          </a:prstGeom>
          <a:ln w="0">
            <a:noFill/>
          </a:ln>
        </p:spPr>
      </p:pic>
      <p:pic>
        <p:nvPicPr>
          <p:cNvPr id="84" name="_Pict" descr=""/>
          <p:cNvPicPr/>
          <p:nvPr/>
        </p:nvPicPr>
        <p:blipFill>
          <a:blip r:embed="rId3"/>
          <a:stretch/>
        </p:blipFill>
        <p:spPr>
          <a:xfrm>
            <a:off x="2362320" y="3505320"/>
            <a:ext cx="3235320" cy="3352680"/>
          </a:xfrm>
          <a:prstGeom prst="rect">
            <a:avLst/>
          </a:prstGeom>
          <a:ln w="0">
            <a:noFill/>
          </a:ln>
        </p:spPr>
      </p:pic>
      <p:pic>
        <p:nvPicPr>
          <p:cNvPr id="85" name="_Pict" descr=""/>
          <p:cNvPicPr/>
          <p:nvPr/>
        </p:nvPicPr>
        <p:blipFill>
          <a:blip r:embed="rId4"/>
          <a:stretch/>
        </p:blipFill>
        <p:spPr>
          <a:xfrm>
            <a:off x="2362320" y="5886360"/>
            <a:ext cx="320040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_Pict" descr=""/>
          <p:cNvPicPr/>
          <p:nvPr/>
        </p:nvPicPr>
        <p:blipFill>
          <a:blip r:embed="rId5"/>
          <a:stretch/>
        </p:blipFill>
        <p:spPr>
          <a:xfrm>
            <a:off x="4800600" y="3333600"/>
            <a:ext cx="4343400" cy="352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E55-47A0-4E06-9036-7CDF1C5E21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 Cyr"/>
              </a:rPr>
              <a:t>Поисковые и контрольные формы</a:t>
            </a:r>
            <a:endParaRPr b="1" lang="en-US" sz="36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193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функциональности форм документооборота без запуска работ – внедрен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Q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запр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матическая загрузка информации при обращении к ф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_Pict" descr=""/>
          <p:cNvPicPr/>
          <p:nvPr/>
        </p:nvPicPr>
        <p:blipFill>
          <a:blip r:embed="rId1"/>
          <a:stretch/>
        </p:blipFill>
        <p:spPr>
          <a:xfrm>
            <a:off x="3276720" y="4633920"/>
            <a:ext cx="5867280" cy="1081080"/>
          </a:xfrm>
          <a:prstGeom prst="rect">
            <a:avLst/>
          </a:prstGeom>
          <a:ln w="0">
            <a:noFill/>
          </a:ln>
        </p:spPr>
      </p:pic>
      <p:pic>
        <p:nvPicPr>
          <p:cNvPr id="90" name="_Pict" descr=""/>
          <p:cNvPicPr/>
          <p:nvPr/>
        </p:nvPicPr>
        <p:blipFill>
          <a:blip r:embed="rId2"/>
          <a:stretch/>
        </p:blipFill>
        <p:spPr>
          <a:xfrm>
            <a:off x="0" y="5610240"/>
            <a:ext cx="5705640" cy="117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7624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14" descr=""/>
          <p:cNvPicPr/>
          <p:nvPr/>
        </p:nvPicPr>
        <p:blipFill>
          <a:blip r:embed="rId3"/>
          <a:stretch/>
        </p:blipFill>
        <p:spPr>
          <a:xfrm>
            <a:off x="0" y="2421000"/>
            <a:ext cx="5029200" cy="2227320"/>
          </a:xfrm>
          <a:prstGeom prst="rect">
            <a:avLst/>
          </a:prstGeom>
          <a:ln w="0">
            <a:noFill/>
          </a:ln>
        </p:spPr>
      </p:pic>
      <p:pic>
        <p:nvPicPr>
          <p:cNvPr id="93" name="_Pict" descr=""/>
          <p:cNvPicPr/>
          <p:nvPr/>
        </p:nvPicPr>
        <p:blipFill>
          <a:blip r:embed="rId4"/>
          <a:stretch/>
        </p:blipFill>
        <p:spPr>
          <a:xfrm>
            <a:off x="3886200" y="2583000"/>
            <a:ext cx="5257800" cy="168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6DA-EF7E-4B7A-8779-CAE343A327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58:47Z</dcterms:created>
  <dc:creator/>
  <dc:description/>
  <dc:language>en-US</dc:language>
  <cp:lastModifiedBy>Administrator</cp:lastModifiedBy>
  <dcterms:modified xsi:type="dcterms:W3CDTF">2005-09-22T20:37:47Z</dcterms:modified>
  <cp:revision>732</cp:revision>
  <dc:subject/>
  <dc:title>Новые возможности системы  Lotsia PDM Plus® v4.x</dc:title>
</cp:coreProperties>
</file>