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A06-CA57-4E88-8D22-6BF11E42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18A-EF8F-4BE0-84B3-4BE6AABB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8D1-C7C2-4BE9-9BD3-14029E1F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DF8-2892-402C-BA0B-AE66C67C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6C62-1538-4D56-860A-4D9981B1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8187-BBF8-424B-BFE3-1617D757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7FE1-9450-4F51-9F1B-7421E489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EF79-1CF7-4F3C-A0A4-90EAEF20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2E26-088D-4AB5-9383-41D66591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E66A-4F2F-4CDC-8F3E-75EB38A4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44C1-8167-497A-A738-11DAEC3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33F-CE58-452D-96FF-7333E7AB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DDE-AD85-4004-A025-CC36A652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FF58-3FC2-4A91-A24A-0E450E3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676-C498-4DD0-87C6-29EC184F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1FEF-56A8-4B1A-BA62-65D9939A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0077-3C6C-44BB-8E75-0C290807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238-4AFE-4949-A112-61777F3F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AB7-75E0-4698-BD5D-7CD55313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823-6F0A-4B55-89F9-81158B96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F67-DB26-46FF-A7ED-46691CEF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241-4145-4D9A-B0EA-9968445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CC9-EA8D-4D6B-8297-8FA030B4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214-5F47-4B4F-8086-6228343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18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spcBef>
                <a:spcPts val="18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spcBef>
                <a:spcPts val="18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spcBef>
                <a:spcPts val="18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spcBef>
                <a:spcPts val="18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0242-5A70-4C3B-B76B-E3F87B87AF1F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7B85-B916-445D-A0C6-3B3645EA1CB4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Tahoma"/>
              </a:rPr>
              <a:t>ОАО «Торговый Дом»Холдинг-Центр».</a:t>
            </a:r>
            <a:br>
              <a:rPr sz="2800"/>
            </a:br>
            <a:r>
              <a:rPr b="0" lang="ru-RU" sz="2800" spc="-1" strike="noStrike">
                <a:solidFill>
                  <a:srgbClr val="cc9900"/>
                </a:solidFill>
                <a:latin typeface="Tahoma"/>
              </a:rPr>
              <a:t>Основные виды деятельности:</a:t>
            </a:r>
            <a:endParaRPr b="0" lang="en-US" sz="2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рговля одеждой среднего кла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рговля элитной Одеж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рговля сантехн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рговля мебел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рговля продуктами пит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вейное производ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Планы на ближайшее будущее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2006 году ввести в промышленную эксплуатацию бухгалтерскую систему «Координатор» во всех подразделениях  комп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одуктовом направлении разработать и внедрить систему контроля заказов (оптимизация ассортимент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работать сложные схемы подписания догово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9900"/>
                </a:solidFill>
                <a:latin typeface="Tahoma"/>
              </a:rPr>
              <a:t>Создание централизованной системы учета договоров.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581280"/>
            <a:ext cx="4114800" cy="4132440"/>
          </a:xfrm>
          <a:prstGeom prst="diamond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Garamond"/>
              </a:rPr>
              <a:t>ОАО «Торговый Дом»Холдинг-Центр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Цели данного проекта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еспечить общий централизованный доступ к договора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ализовать политику распределения прав пользовател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еспечить учет и контроль догово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нтроль цен поставщ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ализация выполнена на основе двух интегрированных систем: торгово-бухгалтерской системы «Координатор»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tsia ERP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системы документооборот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tsia PDM PLUS (Par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Обрабатываются два </a:t>
            </a:r>
            <a:br>
              <a:rPr sz="4200"/>
            </a:b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типа договоров: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хозяйственные договора (услуги, аренда и т .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а, обслуживающие продуктовое направление. В основном, предметом  этих договоров является  оплата за тов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ahoma"/>
              </a:rPr>
              <a:t>Общехозяйственные</a:t>
            </a:r>
            <a:r>
              <a:rPr b="0" lang="ru-RU" sz="32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cc9900"/>
                </a:solidFill>
                <a:latin typeface="Tahoma"/>
              </a:rPr>
              <a:t>договора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990720"/>
          <a:ext cx="693396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69339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1520" y="1142640"/>
            <a:ext cx="1752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6019920"/>
            <a:ext cx="457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В  ЦБС «Координатор»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рточка поставщи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343400"/>
            <a:ext cx="2133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В Документооборо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Lotsia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</a:rPr>
              <a:t>PDM PLUS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арточка договор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окументы архи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00"/>
                </a:solidFill>
                <a:latin typeface="Tahoma"/>
              </a:rPr>
              <a:t>Особенности интеграции двух приложений при создании карточки поставщика</a:t>
            </a: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371600"/>
          <a:ext cx="86868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6868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00"/>
                </a:solidFill>
                <a:latin typeface="Tahoma"/>
              </a:rPr>
              <a:t>Договора направления</a:t>
            </a: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 «</a:t>
            </a:r>
            <a:r>
              <a:rPr b="0" lang="ru-RU" sz="3600" spc="-1" strike="noStrike">
                <a:solidFill>
                  <a:srgbClr val="cc9900"/>
                </a:solidFill>
                <a:latin typeface="Tahoma"/>
              </a:rPr>
              <a:t>Продукты</a:t>
            </a: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»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371600"/>
          <a:ext cx="84582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Tahoma"/>
              </a:rPr>
              <a:t>В Обмен информацией между БД</a:t>
            </a:r>
            <a:r>
              <a:rPr b="0" lang="ru-RU" sz="4200" spc="-1" strike="noStrike">
                <a:solidFill>
                  <a:srgbClr val="cc9900"/>
                </a:solidFill>
                <a:latin typeface="Tahoma"/>
              </a:rPr>
              <a:t>: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В ЦБС создаетс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лассификатор това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поставщиков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договоров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Спецификации договоров (акт согласования цен).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Документооборо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Cyr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Cyr"/>
              </a:rPr>
              <a:t>Lotsia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Cyr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Cyr"/>
              </a:rPr>
              <a:t>PDM Plus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Cyr"/>
              </a:rPr>
              <a:t>Принимает информацию</a:t>
            </a:r>
            <a:r>
              <a:rPr b="0" lang="ru-RU" sz="18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поставщиков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договоров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Бухгалтерская база "Координатор"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Cyr"/>
              </a:rPr>
              <a:t>Принимает информацию</a:t>
            </a: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договоров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поставщ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Торговая база Продуктов "Координатор»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Cyr"/>
              </a:rPr>
              <a:t>Принимает информацию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лассификатор товар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поставщиков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Карточки договоров 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70000"/>
              </a:lnSpc>
              <a:spcBef>
                <a:spcPts val="1349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Спецификации договоров (акт согласования цен).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7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ahoma"/>
              </a:rPr>
              <a:t>Контроль цен поставщиков</a:t>
            </a:r>
            <a:endParaRPr b="0" lang="en-US" sz="36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</a:rPr>
              <a:t>Акт согласования цен формируется централизованн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</a:rPr>
              <a:t>Передается в локальные базы продуктовых магази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</a:rPr>
              <a:t>При создании поставки имеется возможность контролировать правильность цен поставщик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914400"/>
          <a:ext cx="861084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6108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09:50:03Z</dcterms:created>
  <dc:creator>ira</dc:creator>
  <dc:description/>
  <dc:language>en-US</dc:language>
  <cp:lastModifiedBy>-</cp:lastModifiedBy>
  <dcterms:modified xsi:type="dcterms:W3CDTF">2005-09-22T04:01:49Z</dcterms:modified>
  <cp:revision>54</cp:revision>
  <dc:subject/>
  <dc:title>Создание централизованной системы учета договоров.</dc:title>
</cp:coreProperties>
</file>