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C2E5-4C2A-4A0D-B93F-E4332821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3A7-5375-44CF-B6A2-D8323B65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AA16-C2B0-4CC3-B40D-F40E008E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AB00-86D4-42C1-83F9-C6E77CDC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CAB-B5EB-452D-A524-CEE5A900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CBF5-FD0F-48D9-8BCB-BB376AF7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9A4-0ED9-44A4-BAC9-32CCC717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5FB0-8082-4440-A4A4-7866D249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858-ADDE-4037-AC69-F4273574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9D5D-C2E5-4AC2-A2AE-F88C451F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069-0410-4693-B4A0-39671F66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06A3-9F20-4981-8650-BB08EF46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5E5B-24B6-4A50-BA62-291C4F647A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-ls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28760" cy="3808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900360" y="219240"/>
            <a:ext cx="22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Лоция Соф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Перспективы развития </a:t>
            </a:r>
            <a:r>
              <a:rPr b="1" lang="en-US" sz="60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Lotsia PLM</a:t>
            </a:r>
            <a:r>
              <a:rPr b="1" lang="ru-RU" sz="60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в 2006 году</a:t>
            </a:r>
            <a:endParaRPr b="0" lang="en-US" sz="6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09320" y="56383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Лоция Соф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3 сентября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200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5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Общее направление развития </a:t>
            </a: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Lotsia PLM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Совершенствование пользовательского интерфей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Расширение гаммы отраслевых и специализированных решений на базе </a:t>
            </a:r>
            <a:r>
              <a:rPr b="0" lang="en-US" sz="2800" spc="-1" strike="noStrike">
                <a:solidFill>
                  <a:srgbClr val="ffffff"/>
                </a:solidFill>
                <a:latin typeface="Times New Roman Cyr"/>
              </a:rPr>
              <a:t>Lotsia P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Расширение спектра интегрированных приложений (САПР, ГИС, системы календарного планирования и т.п.) и поддерживаемого специализированного аппаратного обеспечения (терминалы сбора данных и т.п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, Лоция Соф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118-C52F-4CFD-945F-7C8DBA93A1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 Cyr"/>
              </a:rPr>
              <a:t>Общее направление развития </a:t>
            </a:r>
            <a:r>
              <a:rPr b="1" lang="en-US" sz="3600" spc="-1" strike="noStrike">
                <a:solidFill>
                  <a:srgbClr val="ffcc00"/>
                </a:solidFill>
                <a:latin typeface="Times New Roman Cyr"/>
              </a:rPr>
              <a:t>Lotsia PLM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Улучшение взаимодействия между </a:t>
            </a:r>
            <a:r>
              <a:rPr b="0" lang="en-US" sz="2800" spc="-1" strike="noStrike">
                <a:solidFill>
                  <a:srgbClr val="ffffff"/>
                </a:solidFill>
                <a:latin typeface="Times New Roman Cyr"/>
              </a:rPr>
              <a:t>Lotsia ERP </a:t>
            </a: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Times New Roman Cyr"/>
              </a:rPr>
              <a:t>Lotsia PDM 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Доработки по пожеланиям пользовател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Развитие поддержки мобильных решений </a:t>
            </a:r>
            <a:r>
              <a:rPr b="0" lang="en-US" sz="2800" spc="-1" strike="noStrike">
                <a:solidFill>
                  <a:srgbClr val="ffffff"/>
                </a:solidFill>
                <a:latin typeface="Times New Roman Cyr"/>
              </a:rPr>
              <a:t>(P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Поддержка авторизованных разработчи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Развитие настроек в соответствии с международными стандарт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Дополнительная сертификация реше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, Лоция Соф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544-1A8E-475B-8817-BF09F967A1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 Cyr"/>
              </a:rPr>
              <a:t>Основные направления развития </a:t>
            </a:r>
            <a:r>
              <a:rPr b="1" lang="en-US" sz="2800" spc="-1" strike="noStrike">
                <a:solidFill>
                  <a:srgbClr val="ffcc00"/>
                </a:solidFill>
                <a:latin typeface="Times New Roman Cyr"/>
              </a:rPr>
              <a:t>Lotsia PDM PLU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Дополнение возможностей по настройке интерфей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Дальнейшее расширение перечня специализированных отраслевых настроек и расширение возможностей уже существующих реш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Расширение поддержки полной интеграции с приложениями (в первую очередь – с отечественными конструкторскими и технологическими САПР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Разработка модулей для встраивания в другие системы (портлеты и т.п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, Лоция Соф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C642-7ECE-423D-B2F9-995FACA18A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 Cyr"/>
              </a:rPr>
              <a:t>Основные направления развития </a:t>
            </a:r>
            <a:r>
              <a:rPr b="1" lang="en-US" sz="2800" spc="-1" strike="noStrike">
                <a:solidFill>
                  <a:srgbClr val="ffcc00"/>
                </a:solidFill>
                <a:latin typeface="Times New Roman Cyr"/>
              </a:rPr>
              <a:t>Lotsia PDM PLU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 Cyr"/>
              </a:rPr>
              <a:t>Расширение возможностей </a:t>
            </a:r>
            <a:r>
              <a:rPr b="0" lang="en-US" sz="2600" spc="-1" strike="noStrike">
                <a:solidFill>
                  <a:srgbClr val="ffffff"/>
                </a:solidFill>
                <a:latin typeface="Times New Roman Cyr"/>
              </a:rPr>
              <a:t>Workflo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Дополнение функционала в части планирования и работы с календаря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Интеграция с новыми типами аппаратного обеспечения (сканерами потокового ввода данных и широкоформатными сканерами, специализированными принтерами и т.п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, Лоция Соф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D31-7118-46DE-A432-06D406DDF2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 Cyr"/>
              </a:rPr>
              <a:t>Основные направления развития </a:t>
            </a:r>
            <a:r>
              <a:rPr b="1" lang="en-US" sz="2800" spc="-1" strike="noStrike">
                <a:solidFill>
                  <a:srgbClr val="ffcc00"/>
                </a:solidFill>
                <a:latin typeface="Times New Roman Cyr"/>
              </a:rPr>
              <a:t>Lotsia PDM PLUS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Развитие средств аналитики и формирования отче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Расширение перечня интегрированных модулей полнотекстового поис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 Cyr"/>
              </a:rPr>
              <a:t>Локализация на китайский и немецкий язы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, Лоция Софт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6D7-4D61-4F22-961E-079D9E6C18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 Cyr"/>
              </a:rPr>
              <a:t>Вопросы?</a:t>
            </a:r>
            <a:endParaRPr b="0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, Лоция Соф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53D-E767-4BDC-8548-559DDCC2CD6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 Cyr"/>
              </a:rPr>
              <a:t>Спасибо за внимание!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4400" spc="-1" strike="noStrike">
                <a:solidFill>
                  <a:srgbClr val="ffcc00"/>
                </a:solidFill>
                <a:latin typeface="Times New Roman Cyr"/>
              </a:rPr>
              <a:t>h</a:t>
            </a: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ttp://www.lotsia.com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imes New Roman Cyr"/>
              </a:rPr>
              <a:t>http://www.lplm.ru</a:t>
            </a:r>
            <a:endParaRPr b="0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5, Лоция Софт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747-1574-40EA-BE3D-1D3004091EE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.09.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19:54:01Z</dcterms:created>
  <dc:creator>Nick</dc:creator>
  <dc:description/>
  <dc:language>en-US</dc:language>
  <cp:lastModifiedBy>-</cp:lastModifiedBy>
  <dcterms:modified xsi:type="dcterms:W3CDTF">2005-09-22T11:34:54Z</dcterms:modified>
  <cp:revision>85</cp:revision>
  <dc:subject/>
  <dc:title>Маркетинговый семинар по системе PartY для партнёров</dc:title>
</cp:coreProperties>
</file>