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985-40DB-4FBF-A9ED-B191F001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366-0ABA-494D-B6D8-5069F360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8AA-87CC-49CB-B4EE-E0E3E00C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FB8-971C-43F7-96C3-DB77CD2C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06E-9E16-426A-88C6-30585D5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F5A-2235-4CEB-B08A-CA300D0A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1E1-7E6B-4EDE-8708-089239A2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780-596C-4650-8C46-7C1850CE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8A6-5AC4-448E-AC12-36DB7B4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59E-5167-4885-AED5-F8C8D48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951-AC93-4FBD-B29B-3155E70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6C6-CD09-4EC8-9B3D-C6DD27FF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4E1C-9F1E-4C22-8770-B67EEC3D83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-ls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0360" y="21924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Достижения и ближайшие перспективы развития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Lotsia ER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23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ентября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200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5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Что сделано, работа с данными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: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Д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обавлена возможность синхронизировать атрибуты Координат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Разрешено менять атрибуты в форме 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В ТУ появилась возможность задавать а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ргумент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Создан элемент отчетов </a:t>
            </a:r>
            <a:r>
              <a:rPr b="0" lang="en-US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CrossReport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Можно создать 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собственны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справочник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и классификатор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ы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произвольной структуры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Добавлены функции для очистки неиспользуемых записей основных справочник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М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ожно передавать информацию об объединении товаров, клиентов и поставщиков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781-F371-41CE-AAAB-222B84748D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Что сделано, интерфейс и настройка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: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Можно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храни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ть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настро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й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экранных форм в БД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. Профилям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можно при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своить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свою настройку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ользовательский документ может содержать коэффициент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ы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, зависящи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от времени.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Добавлена возможность смены пароля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, поиск последнего подключавшегося с данного Р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Тонкая настройка рабочего места и интерфейса программы с использованием скриптов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еревод части функционала системы на обработку скриптами, доступными для изменения пользователем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D32-6FEF-4F75-9712-3A8B311042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Что сделано, развитие функционала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: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Существенно улучшен функционал работы с блоком «Договор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Заказы поставщику напрямую связаны с постав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Реализована с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возная нумерация поставок при приеме от другого юр.лиц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Изменен алгоритм резервирования в сче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Можно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выб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ать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данны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для копирования в соответствии с группами текущего отче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В производственную программу для формирования заказа производству можно сбрасывать не только состав изделия, но и технологию его изготовления, что позволяет более точно планировать ресурсы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BBD-1744-45F9-B094-9E8C8CE0CF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Поддержка и развитие территориально распределенного бизнеса: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Web</a:t>
            </a:r>
            <a:r>
              <a:rPr b="0" lang="ru-RU" sz="3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-интерфейс для удаленного доступа к данным,</a:t>
            </a:r>
            <a:r>
              <a:rPr b="0" lang="ru-RU" sz="3000" spc="-1" strike="noStrike">
                <a:solidFill>
                  <a:srgbClr val="ffffff"/>
                </a:solidFill>
                <a:latin typeface="Times New Roman Cyr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одключение пользовательских отчет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Развитие транспортной утилиты для полного управления пользователями и функциями системы в удаленных филиал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Балансировка нагрузки для ускорения удаленного доступа</a:t>
            </a:r>
            <a:r>
              <a:rPr b="0" lang="ru-RU" sz="30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678-37F9-40C0-813D-F7934C594B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Упрощение продвижения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 и 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освоения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повышение прозрачности продукта</a:t>
            </a:r>
            <a:r>
              <a:rPr b="1" lang="ru-RU" sz="2600" spc="-1" strike="noStrike">
                <a:solidFill>
                  <a:srgbClr val="ffff00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Разработка совместных типовых настроек </a:t>
            </a:r>
            <a:r>
              <a:rPr b="0" lang="en-US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PLM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для различных отраслей и методических материалов по ознакомлению и внедрению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Увеличение функций системы </a:t>
            </a:r>
            <a:r>
              <a:rPr b="0" lang="en-US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CRM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Разработка </a:t>
            </a:r>
            <a:r>
              <a:rPr b="0" lang="en-US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MES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-системы и планировщика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Разработка примеров в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страивани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я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скриптовых языков в различные функциональные блоки системы</a:t>
            </a: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 и создание пользовательских настроек на их баз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Расширение функциональности и улучшение удобства пользов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74C-881D-4BFC-AB71-39F751441C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 Cyr"/>
              </a:rPr>
              <a:t>Спасибо за внимание!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h</a:t>
            </a: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ttp://www.lotsia.com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h</a:t>
            </a: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ttp://www.lplm.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53E-7BE6-4A49-AB18-C745150C91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9:54:01Z</dcterms:created>
  <dc:creator/>
  <dc:description/>
  <dc:language>en-US</dc:language>
  <cp:lastModifiedBy>Administrator</cp:lastModifiedBy>
  <dcterms:modified xsi:type="dcterms:W3CDTF">2005-09-22T19:06:56Z</dcterms:modified>
  <cp:revision>303</cp:revision>
  <dc:subject/>
  <dc:title>Комплексная автоматизация многопрофильных, территориально-распределенных предприятий на базе ERP системы Lotsia ERP</dc:title>
</cp:coreProperties>
</file>