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82A-CF88-4CEA-9D67-B46B2C9B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B64-12C4-468D-ABFF-D420EB63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5F2-B4CD-484A-8918-E23A199C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F82-C491-4E07-9726-9A7BC3B1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708-8D31-4D0B-ABCA-AEDE0EC8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0FE-FBDD-4DE0-BE15-B55FE925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8B8-6811-4E98-8BF0-8DD9B613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43C-26BD-4A45-A905-3964C162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18D-BF50-483D-A27D-1BEF4DD2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1AB-5197-4B93-B51A-748575B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9D1-09B1-4337-83E1-80778EC4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A35-14BB-4008-A37E-4F908016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6D15-9A2F-4BFB-82F4-CD93073780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-ls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0360" y="21924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Комплексная автоматизация многопрофильных, территориально-распределенных предприятий на базе PLM-системы Lotsia PLM</a:t>
            </a:r>
            <a:r>
              <a:rPr b="1" lang="ru-RU" sz="4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5181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Комплексное решение «Работа с договорами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C68-58C8-4080-90DB-DD497E94FD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Исполнение договора: спецификация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280" y="1219320"/>
          <a:ext cx="632484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63248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52280" y="3505320"/>
          <a:ext cx="6705720" cy="237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6705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477120" y="1219320"/>
            <a:ext cx="2819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спецификациях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оговора указываются сроки поставки, цикличность, справочная информац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95680"/>
            <a:ext cx="7391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позициях спецификаций формируются записи с наименованием услуг и ТМЦ, количеством, ценой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т.д. В дальнейшем по этим записям будут формироваться документ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E2D-04BF-4278-B4AE-C9A4489CF8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Комплексный договор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 необходимости учитывать субподрядные договора по договору с заказчиком, достаточно установить связь  основного договора с договорами субподрядчик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22600" y="1600200"/>
          <a:ext cx="574812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2600" y="1600200"/>
                    <a:ext cx="574812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flipH="1">
            <a:off x="1218960" y="2077920"/>
            <a:ext cx="7412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9200" y="2077920"/>
            <a:ext cx="0" cy="22654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9200" y="4303800"/>
            <a:ext cx="66358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314840" y="2630520"/>
            <a:ext cx="5922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2592360"/>
            <a:ext cx="0" cy="17510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05F-E998-4D6A-8E4E-1A87D4AAFC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Исполнение договора: этап опла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08000" y="1523880"/>
          <a:ext cx="689760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523880"/>
                    <a:ext cx="689760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71680" y="4419720"/>
            <a:ext cx="7772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сю необходимую информацию для формирования платёжных поручений и расчёта плана оплат бухгалтер заносит в этап оплат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E64-365E-46DC-84C4-EF5595734E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Исполнение договора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09520" y="1295280"/>
          <a:ext cx="4362480" cy="30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295280"/>
                    <a:ext cx="436248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28600" y="4219560"/>
          <a:ext cx="654192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19560"/>
                    <a:ext cx="654192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124080" y="3276720"/>
            <a:ext cx="381240" cy="1828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828800"/>
            <a:ext cx="4572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сле описания и формирования структуры договора устанавливается связь с текстом договор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923-96CE-45DA-83C6-45F65D34BD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646360" y="4343400"/>
          <a:ext cx="6497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6360" y="4343400"/>
                    <a:ext cx="6497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Отчёт: «Графики по договорам»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1219320"/>
          <a:ext cx="5467320" cy="31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19320"/>
                    <a:ext cx="54673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248520" y="2324160"/>
          <a:ext cx="287640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324160"/>
                    <a:ext cx="28764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572000" y="2438280"/>
            <a:ext cx="16765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5200" y="1600200"/>
            <a:ext cx="236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ипы график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191120"/>
            <a:ext cx="9144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3152880"/>
            <a:ext cx="4800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спользуя данный отчёт, бухгалтер получает данные о предстоящих оплатах (поставках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0A2-BED8-4502-BE14-051D8E0B2F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Исполнение договора: рабочее окно руководителя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502920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а основе имеющихся данных формируется список и состояние расчётных счет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5400" y="1523880"/>
          <a:ext cx="89452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523880"/>
                    <a:ext cx="89452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28600" y="2971800"/>
            <a:ext cx="6972480" cy="5335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A71-03FD-4FE4-B7AC-16E03EDC5E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Исполнение договора: рабочее окно руководителя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22240" y="1295280"/>
          <a:ext cx="74977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295280"/>
                    <a:ext cx="74977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0" y="51814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а основе полученных из системы данных, руководитель поручает оплатить соответствующие догов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B0F-1CF9-4107-9384-A5C8924DD5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847800" y="2209680"/>
          <a:ext cx="7446960" cy="24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209680"/>
                    <a:ext cx="74469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Исполнение договора: этап опла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6320" y="1219320"/>
            <a:ext cx="8972280" cy="5029200"/>
            <a:chOff x="76320" y="1219320"/>
            <a:chExt cx="8972280" cy="5029200"/>
          </a:xfrm>
        </p:grpSpPr>
        <p:grpSp>
          <p:nvGrpSpPr>
            <p:cNvPr id="175" name=""/>
            <p:cNvGrpSpPr/>
            <p:nvPr/>
          </p:nvGrpSpPr>
          <p:grpSpPr>
            <a:xfrm>
              <a:off x="76320" y="1219320"/>
              <a:ext cx="8972280" cy="5029200"/>
              <a:chOff x="76320" y="1219320"/>
              <a:chExt cx="8972280" cy="5029200"/>
            </a:xfrm>
          </p:grpSpPr>
          <p:graphicFrame>
            <p:nvGraphicFramePr>
              <p:cNvPr id="176" name=""/>
              <p:cNvGraphicFramePr/>
              <p:nvPr/>
            </p:nvGraphicFramePr>
            <p:xfrm>
              <a:off x="103320" y="4010040"/>
              <a:ext cx="7059600" cy="2238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3320" y="4010040"/>
                        <a:ext cx="7059600" cy="223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76320" y="1219320"/>
              <a:ext cx="7059600" cy="2238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6320" y="1219320"/>
                        <a:ext cx="7059600" cy="223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1981080" y="2114640"/>
              <a:ext cx="1838520" cy="1238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981080" y="2114640"/>
                        <a:ext cx="1838520" cy="123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5105520" y="3048120"/>
              <a:ext cx="3943080" cy="24033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105520" y="3048120"/>
                        <a:ext cx="3943080" cy="240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4038480" y="3048120"/>
                <a:ext cx="99072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3428640" y="3200400"/>
                <a:ext cx="2133720" cy="16002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29200" y="2971800"/>
                <a:ext cx="1447920" cy="22860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600200" y="2857680"/>
              <a:ext cx="2438280" cy="38088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9880" y="1752480"/>
            <a:ext cx="53341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сле принятии решения об оплате, бухгалтер формирует платёжное поручение по договор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2CC-BAA7-4374-A807-E6B06123BE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Исполнение договора: извещение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4479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орма извещения, которую формирует бухгалтер после платежа (поступления денежных средств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334120"/>
            <a:ext cx="7010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дресатом извещения будет пользователь, который зарегистрировал догово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990800" y="2352600"/>
          <a:ext cx="5162400" cy="29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0800" y="2352600"/>
                    <a:ext cx="516240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78F-5373-4521-A08C-08717B58E4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Исполнение договора: извещение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4479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орма извещения, которую формирует бухгалтер после оформления документов о приходования услуг или ТМ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334120"/>
            <a:ext cx="7010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дресатом извещения будет пользователь, который зарегистрировал догово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09680" y="2405160"/>
          <a:ext cx="4729320" cy="27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05160"/>
                    <a:ext cx="472932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E9C-2986-4C1A-AC94-9B07855748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Основные этапы работы с договором 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(один из возможных сценариев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4267080"/>
            <a:ext cx="32767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362320"/>
            <a:ext cx="72388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егистрация не утверждённого догов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огласование догов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Исполнение договора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активная жизнь» договора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гласование дополнительных соглашений (уточнение или изменение условий договора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B1A-C395-41D3-A2F5-ACCD27596C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Отчёт: «Сальдо по договорам»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4703760"/>
          <a:ext cx="9144000" cy="15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03760"/>
                    <a:ext cx="91440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6320" y="1638360"/>
          <a:ext cx="4876560" cy="258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638360"/>
                    <a:ext cx="487656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486400" y="2362320"/>
          <a:ext cx="281952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362320"/>
                    <a:ext cx="28195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809880" y="2781360"/>
            <a:ext cx="16574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419112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актическое исполнение догов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16765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ипы договор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246-AA81-474C-8ED3-E53158E416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Территориально-распределённая структура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6320" y="1295280"/>
          <a:ext cx="5867280" cy="33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5867280" cy="33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5391000" y="1152360"/>
          <a:ext cx="3295800" cy="30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1000" y="1152360"/>
                    <a:ext cx="329580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676840" y="3352680"/>
          <a:ext cx="346716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6840" y="3352680"/>
                    <a:ext cx="3467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468612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работанная система обмена данными – основа создания единого информационного пространства территориально-распределённого предприят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E11-2BAA-44CF-A742-CE2D482D19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Спасибо за внимание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http://www.lotsia.com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http://www.lplm.ru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EDC-8611-4DDB-80A9-F36DE8F001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Согласование договора: порядок действий (один из возможных сценариев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67080" y="1741320"/>
          <a:ext cx="4648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741320"/>
                    <a:ext cx="4648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57200" y="2967120"/>
            <a:ext cx="822960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гласовать текст договора с руководителем отдел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гласовать текст договора с бухгалтерией и экономической служб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гласовать текст договора с юридической служб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писать договор у Генерального Директ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D25-D4E7-48AE-B1CA-B961C32470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Согласование договора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674720"/>
          <a:ext cx="4648320" cy="29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4720"/>
                    <a:ext cx="4648320" cy="29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24280" y="2206800"/>
            <a:ext cx="4114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 согласовании, право на редакцию текста договора есть только у текущего исполнител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981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сле подписания договора Генеральным директором, на текст договора устанавливается запрет на измене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2A0-52B4-49FF-9B6A-4662BEBA95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8680" y="2459160"/>
          <a:ext cx="6197400" cy="36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2459160"/>
                    <a:ext cx="6197400" cy="36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Согласование договора: форма согласования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789440"/>
            <a:ext cx="3657600" cy="48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Замечания служ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830760"/>
            <a:ext cx="6019560" cy="685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309680"/>
            <a:ext cx="3017880" cy="885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Куда отправить на согласов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3200400"/>
            <a:ext cx="2286000" cy="5335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505320"/>
            <a:ext cx="12193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838080" y="2057400"/>
            <a:ext cx="0" cy="1447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72000" y="4572000"/>
            <a:ext cx="0" cy="38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895480"/>
            <a:ext cx="2590920" cy="762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238880" y="3276720"/>
            <a:ext cx="9144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153280" y="2209680"/>
            <a:ext cx="0" cy="10670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1309680"/>
            <a:ext cx="3276720" cy="885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Статус согласования со служб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E26-2972-43A7-A1D9-BC7BD3CCAA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42920" y="2286000"/>
          <a:ext cx="705960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86000"/>
                    <a:ext cx="705960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Согласование договора: форма замечаний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302080"/>
            <a:ext cx="3657600" cy="48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Замечания служ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4211640"/>
            <a:ext cx="6400800" cy="685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400040"/>
            <a:ext cx="4267080" cy="885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Кнопки работы с текстом докумен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524400"/>
            <a:ext cx="1752480" cy="5331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733920"/>
            <a:ext cx="8384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38080" y="2057040"/>
            <a:ext cx="0" cy="16765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572000" y="4952520"/>
            <a:ext cx="0" cy="3812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62480" y="3048120"/>
            <a:ext cx="2876400" cy="7239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238880" y="3276720"/>
            <a:ext cx="9144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153280" y="1752480"/>
            <a:ext cx="0" cy="15242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371600"/>
            <a:ext cx="2895480" cy="48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оле замеч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477-150D-4C28-9124-B7A5E9BEE9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38080" y="1979640"/>
          <a:ext cx="7467840" cy="42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79640"/>
                    <a:ext cx="746784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Согласование договора: форма подписания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905360"/>
            <a:ext cx="3962520" cy="885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Дата и время согласования со служб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733920"/>
            <a:ext cx="4267080" cy="9144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71800" y="4648320"/>
            <a:ext cx="0" cy="38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3200400"/>
            <a:ext cx="3962520" cy="2667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001000" y="3276720"/>
            <a:ext cx="3808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1880" y="3276720"/>
            <a:ext cx="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095480"/>
            <a:ext cx="792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еред подписанием договора Генеральным Директором договору присваивается номер и да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4572000"/>
            <a:ext cx="2361960" cy="885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Информац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о контраген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8001000" y="4876920"/>
            <a:ext cx="3808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2933640"/>
            <a:ext cx="2819520" cy="2667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048120"/>
            <a:ext cx="5335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057400"/>
            <a:ext cx="0" cy="990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0A9-B7DE-49A8-BFE2-B69841298B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Исполнение договора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1535040"/>
            <a:ext cx="403848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ухгалтер формирует стандартизированное описание и структуру договора, на основе которых будут формироваться финансовые документ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руктура договора может включать: шапку договора, этапы работ, этапы оплат, спецификацию 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мету зат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320" y="1219320"/>
          <a:ext cx="5181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5181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7240" y="3035160"/>
          <a:ext cx="5200560" cy="321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0" y="3035160"/>
                    <a:ext cx="5200560" cy="32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704960" y="414324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523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590560" y="1523880"/>
            <a:ext cx="990360" cy="2590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42840" y="2619360"/>
            <a:ext cx="22291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48080" y="3686040"/>
            <a:ext cx="1828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9240" y="2610000"/>
            <a:ext cx="1428840" cy="10760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0CB-BA1D-4C35-9ED1-BD31B1600A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Исполнение договора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746360"/>
            <a:ext cx="3962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собенность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tsia PLM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заключается в том, что структура договора описывается почти естественным языком. Использования данного подхода позволяет описывать самые сложные формулировки договор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320" y="1219320"/>
          <a:ext cx="51814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51814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240" y="3035160"/>
          <a:ext cx="5200560" cy="321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0" y="3035160"/>
                    <a:ext cx="5200560" cy="32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381400" y="1333440"/>
            <a:ext cx="1066680" cy="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23920" y="4915080"/>
            <a:ext cx="4133880" cy="41904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2200" y="1695600"/>
            <a:ext cx="990720" cy="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23920" y="4305240"/>
            <a:ext cx="4133880" cy="39996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71400" y="1695600"/>
            <a:ext cx="685800" cy="259056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1371600"/>
            <a:ext cx="1295280" cy="350532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BC8-530F-4754-B155-26E76A71E2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9:54:01Z</dcterms:created>
  <dc:creator/>
  <dc:description/>
  <dc:language>en-US</dc:language>
  <cp:lastModifiedBy>Administrator</cp:lastModifiedBy>
  <dcterms:modified xsi:type="dcterms:W3CDTF">2005-09-22T19:10:25Z</dcterms:modified>
  <cp:revision>588</cp:revision>
  <dc:subject/>
  <dc:title>Lotsia PLM</dc:title>
</cp:coreProperties>
</file>