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C2C3-F4E4-45EB-A25A-6961DAB87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79848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2280" y="4020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56A4-BB54-4F2D-9796-2B0E5313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79848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2280" y="4020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1800" y="4020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353B-B389-40A0-AE91-13D2A8744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79848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41000" y="175212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0080" y="175212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2280" y="4020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41000" y="4020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0080" y="4020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AB79-A36D-469A-A5B2-CE9767657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79848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C74A-72E6-4B17-80B5-47D9F684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79848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B304-159C-42B2-9915-4CEEB6CE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79848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8A55-7C2F-4A4C-AED5-6D90E3F4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79848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9AED-BD52-42F6-94A1-DEA1D736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83772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7E36-86D5-4E90-873D-FC090D59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79848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2280" y="4020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C35B-F3E7-4CF2-9CA7-485D1051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79848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1800" y="4020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F823-DCEE-45AE-B23D-A19164A3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79848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2280" y="4020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DCE1-A559-4A8A-8A51-730A6385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 Cyr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75212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FA7A-A23E-4331-89E7-129D8BDA62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-ls3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428760" cy="3808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900360" y="219240"/>
            <a:ext cx="221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Лоция Соф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715000" y="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овое в программ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Times New Roman Cyr"/>
              </a:rPr>
              <a:t>Новые возможности </a:t>
            </a:r>
            <a:br>
              <a:rPr sz="6000"/>
            </a:br>
            <a:r>
              <a:rPr b="1" lang="en-US" sz="6000" spc="-1" strike="noStrike">
                <a:solidFill>
                  <a:srgbClr val="ffcc00"/>
                </a:solidFill>
                <a:latin typeface="Times New Roman Cyr"/>
              </a:rPr>
              <a:t>Lotsia</a:t>
            </a:r>
            <a:r>
              <a:rPr b="1" lang="ru-RU" sz="6000" spc="-1" strike="noStrike" baseline="30000">
                <a:solidFill>
                  <a:srgbClr val="ffcc00"/>
                </a:solidFill>
                <a:latin typeface="Times New Roman Cyr"/>
              </a:rPr>
              <a:t>®</a:t>
            </a:r>
            <a:r>
              <a:rPr b="1" lang="en-US" sz="6000" spc="-1" strike="noStrike">
                <a:solidFill>
                  <a:srgbClr val="ffcc00"/>
                </a:solidFill>
                <a:latin typeface="Times New Roman Cyr"/>
              </a:rPr>
              <a:t> PDM PLUS</a:t>
            </a:r>
            <a:br>
              <a:rPr sz="6000"/>
            </a:br>
            <a:r>
              <a:rPr b="1" lang="en-US" sz="6000" spc="-1" strike="noStrike">
                <a:solidFill>
                  <a:srgbClr val="ffcc00"/>
                </a:solidFill>
                <a:latin typeface="Times New Roman Cyr"/>
              </a:rPr>
              <a:t>v4.12</a:t>
            </a:r>
            <a:endParaRPr b="1" lang="en-US" sz="60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14040" y="61718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Лоция Соф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 Cyr"/>
              </a:rPr>
              <a:t>Пользователи</a:t>
            </a: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зможность изменени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оля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амим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ьзователе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формация о пользователе, который последним подключался к БД с указанного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бочего мест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_Pict" descr=""/>
          <p:cNvPicPr/>
          <p:nvPr/>
        </p:nvPicPr>
        <p:blipFill>
          <a:blip r:embed="rId1"/>
          <a:stretch/>
        </p:blipFill>
        <p:spPr>
          <a:xfrm>
            <a:off x="5638680" y="1771560"/>
            <a:ext cx="3429000" cy="2266920"/>
          </a:xfrm>
          <a:prstGeom prst="rect">
            <a:avLst/>
          </a:prstGeom>
          <a:ln w="0">
            <a:noFill/>
          </a:ln>
        </p:spPr>
      </p:pic>
      <p:pic>
        <p:nvPicPr>
          <p:cNvPr id="80" name="_Pict" descr=""/>
          <p:cNvPicPr/>
          <p:nvPr/>
        </p:nvPicPr>
        <p:blipFill>
          <a:blip r:embed="rId2"/>
          <a:stretch/>
        </p:blipFill>
        <p:spPr>
          <a:xfrm>
            <a:off x="3581280" y="5332320"/>
            <a:ext cx="5410440" cy="76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5 Лоция Софт http://www.lotsi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640C-A91A-4506-B9A1-93B2280F7B8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05740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Times New Roman Cyr"/>
              </a:rPr>
              <a:t>Спасибо за внимание!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400" spc="-1" strike="noStrike">
                <a:solidFill>
                  <a:srgbClr val="ffcc00"/>
                </a:solidFill>
                <a:latin typeface="Times New Roman Cyr"/>
              </a:rPr>
              <a:t>http://www.lotsia.com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 Cyr"/>
              </a:rPr>
              <a:t>http://www.lplm.ru</a:t>
            </a: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5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164E-EA29-48A2-B8A5-7F63DE08C0A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1447920"/>
            <a:ext cx="8763120" cy="33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 Cyr"/>
              </a:rPr>
              <a:t>около</a:t>
            </a:r>
            <a:r>
              <a:rPr b="1" lang="en-US" sz="6000" spc="-1" strike="noStrike">
                <a:solidFill>
                  <a:srgbClr val="ffffff"/>
                </a:solidFill>
                <a:latin typeface="Times New Roman Cyr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 Cyr"/>
              </a:rPr>
              <a:t>50 новых возможностей в версии 4.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 Cyr"/>
              </a:rPr>
              <a:t>более 100 новых возможностей с нашей предыдущей встре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5 Лоция Софт http://www.lotsia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9F59-1CA8-44C3-9942-D3C9400873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2280" y="144756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ступ к части пользовательского функциона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дминистрирование настройки - через привычный клиентский модул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бственные пункты меню с любыми внутренними ссылк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правление оформлением фреймо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ерез конфигурационный фай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 Cyr"/>
              </a:rPr>
              <a:t>WEB</a:t>
            </a:r>
            <a:r>
              <a:rPr b="1" lang="ru-RU" sz="4400" spc="-1" strike="noStrike">
                <a:solidFill>
                  <a:srgbClr val="ffcc00"/>
                </a:solidFill>
                <a:latin typeface="Times New Roman Cyr"/>
              </a:rPr>
              <a:t>-интерфейс</a:t>
            </a: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249200" y="2819520"/>
            <a:ext cx="7589880" cy="1008000"/>
            <a:chOff x="1249200" y="2819520"/>
            <a:chExt cx="7589880" cy="1008000"/>
          </a:xfrm>
        </p:grpSpPr>
        <p:pic>
          <p:nvPicPr>
            <p:cNvPr id="50" name="_Pict" descr=""/>
            <p:cNvPicPr/>
            <p:nvPr/>
          </p:nvPicPr>
          <p:blipFill>
            <a:blip r:embed="rId1"/>
            <a:stretch/>
          </p:blipFill>
          <p:spPr>
            <a:xfrm>
              <a:off x="4678200" y="2819520"/>
              <a:ext cx="4160880" cy="73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_Pict" descr=""/>
            <p:cNvPicPr/>
            <p:nvPr/>
          </p:nvPicPr>
          <p:blipFill>
            <a:blip r:embed="rId2"/>
            <a:stretch/>
          </p:blipFill>
          <p:spPr>
            <a:xfrm>
              <a:off x="1249200" y="2819520"/>
              <a:ext cx="281916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flipV="1">
              <a:off x="3382560" y="2971440"/>
              <a:ext cx="129564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" name="_Pict" descr=""/>
          <p:cNvPicPr/>
          <p:nvPr/>
        </p:nvPicPr>
        <p:blipFill>
          <a:blip r:embed="rId3"/>
          <a:stretch/>
        </p:blipFill>
        <p:spPr>
          <a:xfrm>
            <a:off x="6172200" y="4343400"/>
            <a:ext cx="2743200" cy="186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5 Лоция Софт http://www.lotsi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6B28-CD09-4624-8C60-7E67AB0E6E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240" y="838080"/>
            <a:ext cx="8915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стемные переменны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для документооборо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лендар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пользователей и объектов, в т.ч. режим планировщ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_Pict" descr=""/>
          <p:cNvPicPr/>
          <p:nvPr/>
        </p:nvPicPr>
        <p:blipFill>
          <a:blip r:embed="rId1"/>
          <a:stretch/>
        </p:blipFill>
        <p:spPr>
          <a:xfrm>
            <a:off x="3124080" y="3233880"/>
            <a:ext cx="6019920" cy="3624120"/>
          </a:xfrm>
          <a:prstGeom prst="rect">
            <a:avLst/>
          </a:prstGeom>
          <a:ln w="0">
            <a:noFill/>
          </a:ln>
        </p:spPr>
      </p:pic>
      <p:pic>
        <p:nvPicPr>
          <p:cNvPr id="56" name="_Pict" descr=""/>
          <p:cNvPicPr/>
          <p:nvPr/>
        </p:nvPicPr>
        <p:blipFill>
          <a:blip r:embed="rId2"/>
          <a:stretch/>
        </p:blipFill>
        <p:spPr>
          <a:xfrm>
            <a:off x="4343400" y="1447920"/>
            <a:ext cx="4618080" cy="112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5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D62B-FD25-4D09-9CE4-C3CAE819C6C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ункции для работы с наследуемыми и унаследованными прав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еличена скорость обновления прав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ступ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для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истем с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ьших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личеством пользовател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можность создани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нопок в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трибутивных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а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_Pict" descr=""/>
          <p:cNvPicPr/>
          <p:nvPr/>
        </p:nvPicPr>
        <p:blipFill>
          <a:blip r:embed="rId1"/>
          <a:stretch/>
        </p:blipFill>
        <p:spPr>
          <a:xfrm>
            <a:off x="5029200" y="3352680"/>
            <a:ext cx="3878280" cy="317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5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E29A-3975-4D02-BD4D-3F1114C5554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 Cyr"/>
              </a:rPr>
              <a:t>Копирование</a:t>
            </a: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915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новременное копирование нескольких версий в новые документ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шаговое к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ирование проектов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: учет экземпляров, копирование корневого объекта без связей, копирова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ъектов с копирование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кументов архи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_Pict" descr=""/>
          <p:cNvPicPr/>
          <p:nvPr/>
        </p:nvPicPr>
        <p:blipFill>
          <a:blip r:embed="rId1"/>
          <a:stretch/>
        </p:blipFill>
        <p:spPr>
          <a:xfrm>
            <a:off x="5105520" y="3851280"/>
            <a:ext cx="4038480" cy="297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5 Лоция Софт http://www.lotsi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B119-694E-4D5E-B0A5-5B0D5BC4BB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8377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imes New Roman Cyr"/>
              </a:rPr>
              <a:t>Экспорт по шаблону в </a:t>
            </a:r>
            <a:r>
              <a:rPr b="1" lang="en-US" sz="4400" spc="-1" strike="noStrike">
                <a:solidFill>
                  <a:srgbClr val="ffcc00"/>
                </a:solidFill>
                <a:latin typeface="Times New Roman Cyr"/>
              </a:rPr>
              <a:t>MS Word</a:t>
            </a: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ддержка экспорта в текстовые рам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зрешено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экспортировать текстовые пол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_Pict" descr=""/>
          <p:cNvPicPr/>
          <p:nvPr/>
        </p:nvPicPr>
        <p:blipFill>
          <a:blip r:embed="rId1"/>
          <a:stretch/>
        </p:blipFill>
        <p:spPr>
          <a:xfrm>
            <a:off x="457200" y="2782800"/>
            <a:ext cx="8458200" cy="1484280"/>
          </a:xfrm>
          <a:prstGeom prst="rect">
            <a:avLst/>
          </a:prstGeom>
          <a:ln w="0">
            <a:noFill/>
          </a:ln>
        </p:spPr>
      </p:pic>
      <p:pic>
        <p:nvPicPr>
          <p:cNvPr id="65" name="_Pict" descr=""/>
          <p:cNvPicPr/>
          <p:nvPr/>
        </p:nvPicPr>
        <p:blipFill>
          <a:blip r:embed="rId2"/>
          <a:stretch/>
        </p:blipFill>
        <p:spPr>
          <a:xfrm>
            <a:off x="6426360" y="4000680"/>
            <a:ext cx="271764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5 Лоция Софт http://www.lotsi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C95E-2433-424E-87DA-CB16A25364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 Cyr"/>
              </a:rPr>
              <a:t>Работа с документами</a:t>
            </a: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тандартная»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граци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бо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архиве из любог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ложени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крытии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умента архива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иложен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решено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б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ть режим доступ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_Pict" descr=""/>
          <p:cNvPicPr/>
          <p:nvPr/>
        </p:nvPicPr>
        <p:blipFill>
          <a:blip r:embed="rId1"/>
          <a:stretch/>
        </p:blipFill>
        <p:spPr>
          <a:xfrm>
            <a:off x="4925880" y="1600200"/>
            <a:ext cx="4065840" cy="2814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887560" y="294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419720" y="5435640"/>
            <a:ext cx="4724280" cy="1346040"/>
            <a:chOff x="4419720" y="5435640"/>
            <a:chExt cx="4724280" cy="1346040"/>
          </a:xfrm>
        </p:grpSpPr>
        <p:pic>
          <p:nvPicPr>
            <p:cNvPr id="71" name="SelectVer" descr=""/>
            <p:cNvPicPr/>
            <p:nvPr/>
          </p:nvPicPr>
          <p:blipFill>
            <a:blip r:embed="rId2"/>
            <a:stretch/>
          </p:blipFill>
          <p:spPr>
            <a:xfrm>
              <a:off x="4419720" y="5435640"/>
              <a:ext cx="4724280" cy="13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7086600" y="5715000"/>
              <a:ext cx="205740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5 Лоция Софт http://www.lotsi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FB08-7A22-440C-AD07-211977552FB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 Cyr"/>
              </a:rPr>
              <a:t>Работа с документами</a:t>
            </a:r>
            <a:endParaRPr b="1" lang="en-US" sz="4400" spc="-1" strike="noStrike">
              <a:solidFill>
                <a:srgbClr val="ffcc00"/>
              </a:solidFill>
              <a:latin typeface="Times New Roman Cyr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можность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«до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хват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»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только измененных файлов документ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и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хват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озврат файлов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архив происходит только, если локальный файл был измене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_Pict" descr=""/>
          <p:cNvPicPr/>
          <p:nvPr/>
        </p:nvPicPr>
        <p:blipFill>
          <a:blip r:embed="rId1"/>
          <a:stretch/>
        </p:blipFill>
        <p:spPr>
          <a:xfrm>
            <a:off x="2895480" y="2662200"/>
            <a:ext cx="6096240" cy="1147680"/>
          </a:xfrm>
          <a:prstGeom prst="rect">
            <a:avLst/>
          </a:prstGeom>
          <a:ln w="0">
            <a:noFill/>
          </a:ln>
        </p:spPr>
      </p:pic>
      <p:pic>
        <p:nvPicPr>
          <p:cNvPr id="76" name="_Pict" descr=""/>
          <p:cNvPicPr/>
          <p:nvPr/>
        </p:nvPicPr>
        <p:blipFill>
          <a:blip r:embed="rId2"/>
          <a:stretch/>
        </p:blipFill>
        <p:spPr>
          <a:xfrm>
            <a:off x="685800" y="5181480"/>
            <a:ext cx="8229600" cy="8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5 Лоция Софт http://www.lotsi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40B2-706B-4FAF-84D9-E46BC63F79A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30T14:58:47Z</dcterms:created>
  <dc:creator/>
  <dc:description/>
  <dc:language>en-US</dc:language>
  <cp:lastModifiedBy>Administrator</cp:lastModifiedBy>
  <dcterms:modified xsi:type="dcterms:W3CDTF">2005-09-22T07:04:23Z</dcterms:modified>
  <cp:revision>652</cp:revision>
  <dc:subject/>
  <dc:title>Новые возможности системы  Lotsia PDM Plus® v4.x</dc:title>
</cp:coreProperties>
</file>