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99300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45E-712F-4FE2-8641-77601C74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889-3E12-43A3-92A4-E5F812D7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9D0-B770-4F72-B507-D74C5172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1FA-EC9B-4EFF-9F14-CEBDCF9D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8AB-91A0-4B4F-858D-BFAB0E57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686-E65B-4B2E-B5BF-5D3114DA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486E-8540-4BA3-A88F-1F624F03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5F8-FEE6-4CB9-BBB6-491D37C7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311-A4CF-47A7-8336-98BB76FC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938-8B3B-40F5-BEB3-C0EEF5C1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429-43BD-4896-A27B-2C693962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8B1-90E7-49A8-9161-64C4AB20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F4B7-4EF9-4016-8136-654AF582A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ragmaticaCT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2451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aeb9c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759c"/>
                </a:solidFill>
                <a:latin typeface="Times New Roman"/>
              </a:rPr>
              <a:t>Планирование и контроль средствами </a:t>
            </a:r>
            <a:r>
              <a:rPr b="1" lang="en-US" sz="5400" spc="-1" strike="noStrike">
                <a:solidFill>
                  <a:srgbClr val="40759c"/>
                </a:solidFill>
                <a:latin typeface="Times New Roman"/>
              </a:rPr>
              <a:t>Lotsia PDM Pl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4486320"/>
            <a:ext cx="20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67f"/>
                </a:solidFill>
                <a:latin typeface="Times New Roman"/>
              </a:rPr>
              <a:t>Эльзессер А.В.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43" name=""/>
          <p:cNvSpPr/>
          <p:nvPr/>
        </p:nvSpPr>
        <p:spPr>
          <a:xfrm>
            <a:off x="3198960" y="57135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67f"/>
                </a:solidFill>
                <a:latin typeface="Times New Roman"/>
              </a:rPr>
              <a:t>ТюменНИИгипрогаз, 2005 г.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0800" y="949320"/>
            <a:ext cx="626904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Реализация плана-графика в АСУ П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73800" y="1593720"/>
            <a:ext cx="281916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Элементы плана-графика размещены в разделе «Диспетчеризация»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21" name=""/>
          <p:cNvSpPr/>
          <p:nvPr/>
        </p:nvSpPr>
        <p:spPr>
          <a:xfrm>
            <a:off x="5778360" y="2577960"/>
            <a:ext cx="29466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5380"/>
                </a:solidFill>
                <a:latin typeface="Times New Roman"/>
              </a:rPr>
              <a:t>структура раздела «Диспетчеризация» повторяет структуру проекта</a:t>
            </a:r>
            <a:r>
              <a:rPr b="0" lang="en-US" sz="1600" spc="-1" strike="noStrike">
                <a:solidFill>
                  <a:srgbClr val="00538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5380"/>
                </a:solidFill>
                <a:latin typeface="Times New Roman"/>
              </a:rPr>
              <a:t>и структуру разделов «Задания» и «ПСД»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22" name=""/>
          <p:cNvSpPr/>
          <p:nvPr/>
        </p:nvSpPr>
        <p:spPr>
          <a:xfrm>
            <a:off x="5816520" y="3759120"/>
            <a:ext cx="23623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5380"/>
                </a:solidFill>
                <a:latin typeface="Times New Roman"/>
              </a:rPr>
              <a:t>объекты из разных разделов связаны между собой равнозначными связями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438200" y="1798560"/>
          <a:ext cx="32832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38200" y="1798560"/>
                    <a:ext cx="3283200" cy="122256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1438200" y="3281400"/>
            <a:ext cx="3260880" cy="2733480"/>
            <a:chOff x="1438200" y="3281400"/>
            <a:chExt cx="3260880" cy="2733480"/>
          </a:xfrm>
        </p:grpSpPr>
        <p:graphicFrame>
          <p:nvGraphicFramePr>
            <p:cNvPr id="126" name=""/>
            <p:cNvGraphicFramePr/>
            <p:nvPr/>
          </p:nvGraphicFramePr>
          <p:xfrm>
            <a:off x="1438200" y="4776840"/>
            <a:ext cx="3249720" cy="1238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38200" y="4776840"/>
                      <a:ext cx="3249720" cy="1238040"/>
                    </a:xfrm>
                    <a:prstGeom prst="rect">
                      <a:avLst/>
                    </a:prstGeom>
                    <a:ln w="19080">
                      <a:solidFill>
                        <a:srgbClr val="00567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"/>
            <p:cNvGraphicFramePr/>
            <p:nvPr/>
          </p:nvGraphicFramePr>
          <p:xfrm>
            <a:off x="1438200" y="3281400"/>
            <a:ext cx="3260880" cy="1265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38200" y="3281400"/>
                      <a:ext cx="3260880" cy="1265040"/>
                    </a:xfrm>
                    <a:prstGeom prst="rect">
                      <a:avLst/>
                    </a:prstGeom>
                    <a:ln w="19080">
                      <a:solidFill>
                        <a:srgbClr val="00567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30" name=""/>
          <p:cNvGrpSpPr/>
          <p:nvPr/>
        </p:nvGrpSpPr>
        <p:grpSpPr>
          <a:xfrm>
            <a:off x="985680" y="1828800"/>
            <a:ext cx="393840" cy="3086280"/>
            <a:chOff x="985680" y="1828800"/>
            <a:chExt cx="393840" cy="3086280"/>
          </a:xfrm>
        </p:grpSpPr>
        <p:sp>
          <p:nvSpPr>
            <p:cNvPr id="131" name=""/>
            <p:cNvSpPr/>
            <p:nvPr/>
          </p:nvSpPr>
          <p:spPr>
            <a:xfrm>
              <a:off x="1074600" y="3403440"/>
              <a:ext cx="304920" cy="1419480"/>
            </a:xfrm>
            <a:custGeom>
              <a:avLst/>
              <a:gdLst/>
              <a:ahLst/>
              <a:rect l="l" t="t" r="r" b="b"/>
              <a:pathLst>
                <a:path w="192" h="902">
                  <a:moveTo>
                    <a:pt x="192" y="902"/>
                  </a:moveTo>
                  <a:lnTo>
                    <a:pt x="0" y="902"/>
                  </a:lnTo>
                  <a:lnTo>
                    <a:pt x="3" y="0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85680" y="1828800"/>
              <a:ext cx="393840" cy="3086280"/>
            </a:xfrm>
            <a:custGeom>
              <a:avLst/>
              <a:gdLst/>
              <a:ahLst/>
              <a:rect l="l" t="t" r="r" b="b"/>
              <a:pathLst>
                <a:path w="288" h="1944">
                  <a:moveTo>
                    <a:pt x="288" y="1944"/>
                  </a:moveTo>
                  <a:lnTo>
                    <a:pt x="0" y="1944"/>
                  </a:lnTo>
                  <a:lnTo>
                    <a:pt x="0" y="0"/>
                  </a:lnTo>
                  <a:lnTo>
                    <a:pt x="269" y="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74600" y="1913040"/>
              <a:ext cx="289080" cy="1407960"/>
            </a:xfrm>
            <a:custGeom>
              <a:avLst/>
              <a:gdLst/>
              <a:ahLst/>
              <a:rect l="l" t="t" r="r" b="b"/>
              <a:pathLst>
                <a:path w="182" h="903">
                  <a:moveTo>
                    <a:pt x="182" y="902"/>
                  </a:moveTo>
                  <a:lnTo>
                    <a:pt x="0" y="903"/>
                  </a:lnTo>
                  <a:lnTo>
                    <a:pt x="3" y="3"/>
                  </a:lnTo>
                  <a:lnTo>
                    <a:pt x="173" y="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55560" y="2108160"/>
            <a:ext cx="736560" cy="3022560"/>
            <a:chOff x="655560" y="2108160"/>
            <a:chExt cx="736560" cy="3022560"/>
          </a:xfrm>
        </p:grpSpPr>
        <p:sp>
          <p:nvSpPr>
            <p:cNvPr id="135" name=""/>
            <p:cNvSpPr/>
            <p:nvPr/>
          </p:nvSpPr>
          <p:spPr>
            <a:xfrm>
              <a:off x="731880" y="3632040"/>
              <a:ext cx="647640" cy="1432080"/>
            </a:xfrm>
            <a:custGeom>
              <a:avLst/>
              <a:gdLst/>
              <a:ahLst/>
              <a:rect l="l" t="t" r="r" b="b"/>
              <a:pathLst>
                <a:path w="192" h="902">
                  <a:moveTo>
                    <a:pt x="192" y="902"/>
                  </a:moveTo>
                  <a:lnTo>
                    <a:pt x="0" y="902"/>
                  </a:lnTo>
                  <a:lnTo>
                    <a:pt x="3" y="0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5560" y="2108160"/>
              <a:ext cx="736560" cy="3022560"/>
            </a:xfrm>
            <a:custGeom>
              <a:avLst/>
              <a:gdLst/>
              <a:ahLst/>
              <a:rect l="l" t="t" r="r" b="b"/>
              <a:pathLst>
                <a:path w="288" h="1944">
                  <a:moveTo>
                    <a:pt x="288" y="1944"/>
                  </a:moveTo>
                  <a:lnTo>
                    <a:pt x="0" y="1944"/>
                  </a:lnTo>
                  <a:lnTo>
                    <a:pt x="0" y="0"/>
                  </a:lnTo>
                  <a:lnTo>
                    <a:pt x="269" y="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1880" y="2166840"/>
              <a:ext cx="644400" cy="1408320"/>
            </a:xfrm>
            <a:custGeom>
              <a:avLst/>
              <a:gdLst/>
              <a:ahLst/>
              <a:rect l="l" t="t" r="r" b="b"/>
              <a:pathLst>
                <a:path w="182" h="903">
                  <a:moveTo>
                    <a:pt x="182" y="902"/>
                  </a:moveTo>
                  <a:lnTo>
                    <a:pt x="0" y="903"/>
                  </a:lnTo>
                  <a:lnTo>
                    <a:pt x="3" y="3"/>
                  </a:lnTo>
                  <a:lnTo>
                    <a:pt x="173" y="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877840" y="2679840"/>
            <a:ext cx="2260440" cy="3085920"/>
            <a:chOff x="2877840" y="2679840"/>
            <a:chExt cx="2260440" cy="3085920"/>
          </a:xfrm>
        </p:grpSpPr>
        <p:sp>
          <p:nvSpPr>
            <p:cNvPr id="139" name=""/>
            <p:cNvSpPr/>
            <p:nvPr/>
          </p:nvSpPr>
          <p:spPr>
            <a:xfrm>
              <a:off x="2890800" y="4254480"/>
              <a:ext cx="2138400" cy="1419120"/>
            </a:xfrm>
            <a:custGeom>
              <a:avLst/>
              <a:gdLst/>
              <a:ahLst/>
              <a:rect l="l" t="t" r="r" b="b"/>
              <a:pathLst>
                <a:path w="1923" h="894">
                  <a:moveTo>
                    <a:pt x="0" y="894"/>
                  </a:moveTo>
                  <a:lnTo>
                    <a:pt x="1920" y="894"/>
                  </a:lnTo>
                  <a:lnTo>
                    <a:pt x="1923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00520" y="2763720"/>
              <a:ext cx="2128680" cy="1408320"/>
            </a:xfrm>
            <a:custGeom>
              <a:avLst/>
              <a:gdLst/>
              <a:ahLst/>
              <a:rect l="l" t="t" r="r" b="b"/>
              <a:pathLst>
                <a:path w="1117" h="887">
                  <a:moveTo>
                    <a:pt x="0" y="886"/>
                  </a:moveTo>
                  <a:lnTo>
                    <a:pt x="1114" y="887"/>
                  </a:lnTo>
                  <a:lnTo>
                    <a:pt x="1117" y="3"/>
                  </a:lnTo>
                  <a:lnTo>
                    <a:pt x="55" y="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877480" y="2679840"/>
              <a:ext cx="2260440" cy="3085920"/>
            </a:xfrm>
            <a:custGeom>
              <a:avLst/>
              <a:gdLst/>
              <a:ahLst/>
              <a:rect l="l" t="t" r="r" b="b"/>
              <a:pathLst>
                <a:path w="288" h="1944">
                  <a:moveTo>
                    <a:pt x="288" y="1944"/>
                  </a:moveTo>
                  <a:lnTo>
                    <a:pt x="0" y="1944"/>
                  </a:lnTo>
                  <a:lnTo>
                    <a:pt x="0" y="0"/>
                  </a:lnTo>
                  <a:lnTo>
                    <a:pt x="269" y="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816520" y="4902120"/>
            <a:ext cx="23623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5380"/>
                </a:solidFill>
                <a:latin typeface="Times New Roman"/>
              </a:rPr>
              <a:t>связи наследуются при создании объектов следующего уровня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591240" y="2171880"/>
            <a:ext cx="22608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67f"/>
                </a:solidFill>
                <a:latin typeface="Times New Roman"/>
              </a:rPr>
              <a:t>- при обработке элемента плана-графика автоматически создаются атрибутивные карточки заданий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6600" y="1893960"/>
          <a:ext cx="5695920" cy="45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6600" y="1893960"/>
                    <a:ext cx="5695920" cy="454320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705040" y="5243400"/>
            <a:ext cx="1397160" cy="35568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50800" y="949320"/>
            <a:ext cx="626904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Реализация плана-графика в АСУ П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591240" y="2171880"/>
            <a:ext cx="22608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67f"/>
                </a:solidFill>
                <a:latin typeface="Times New Roman"/>
              </a:rPr>
              <a:t>- при обработке элемента плана-графика автоматически создаются атрибутивные карточки заданий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49" name=""/>
          <p:cNvSpPr/>
          <p:nvPr/>
        </p:nvSpPr>
        <p:spPr>
          <a:xfrm>
            <a:off x="6591240" y="4229280"/>
            <a:ext cx="2260800" cy="15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5380"/>
                </a:solidFill>
                <a:latin typeface="Times New Roman"/>
              </a:rPr>
              <a:t>и актуализируется вкладка «Плановые даты» соответствующего объекта проектирования 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12880" y="2097000"/>
          <a:ext cx="5257800" cy="37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2880" y="2097000"/>
                    <a:ext cx="5257800" cy="378144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679840" y="5002200"/>
            <a:ext cx="2654280" cy="26676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50800" y="949320"/>
            <a:ext cx="626904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Реализация плана-графика в АСУ П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79360" y="1776240"/>
          <a:ext cx="3809880" cy="353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9360" y="1776240"/>
                    <a:ext cx="3809880" cy="353412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019920" y="2171880"/>
            <a:ext cx="2832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Корректировка плановых дат плана-графика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57" name=""/>
          <p:cNvSpPr/>
          <p:nvPr/>
        </p:nvSpPr>
        <p:spPr>
          <a:xfrm>
            <a:off x="6616800" y="3263760"/>
            <a:ext cx="2235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380"/>
                </a:solidFill>
                <a:latin typeface="Times New Roman"/>
              </a:rPr>
              <a:t>- при изменении плановой даты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58" name=""/>
          <p:cNvSpPr/>
          <p:nvPr/>
        </p:nvSpPr>
        <p:spPr>
          <a:xfrm>
            <a:off x="6616800" y="4241880"/>
            <a:ext cx="22352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380"/>
                </a:solidFill>
                <a:latin typeface="Times New Roman"/>
              </a:rPr>
              <a:t>- при добавлении / исключении задания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59" name=""/>
          <p:cNvSpPr/>
          <p:nvPr/>
        </p:nvSpPr>
        <p:spPr>
          <a:xfrm>
            <a:off x="876240" y="4659480"/>
            <a:ext cx="1463760" cy="38088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84440" y="2854440"/>
          <a:ext cx="3683160" cy="383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4440" y="2854440"/>
                    <a:ext cx="3683160" cy="383832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718160" y="4948200"/>
            <a:ext cx="1616040" cy="25704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4857840"/>
            <a:ext cx="2374920" cy="158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50800" y="949320"/>
            <a:ext cx="626904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Реализация плана-графика в АСУ П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76120" y="946080"/>
            <a:ext cx="5398920" cy="5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Маршрутизация докумен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13400" y="2616120"/>
            <a:ext cx="2222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8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выдача задания</a:t>
            </a:r>
            <a:br>
              <a:rPr sz="1800"/>
            </a:br>
            <a:r>
              <a:rPr b="0" lang="en-US" sz="1800" spc="-1" strike="noStrike">
                <a:solidFill>
                  <a:srgbClr val="00538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смежному отдел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67" name=""/>
          <p:cNvSpPr/>
          <p:nvPr/>
        </p:nvSpPr>
        <p:spPr>
          <a:xfrm>
            <a:off x="6111720" y="1457280"/>
            <a:ext cx="282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80"/>
                </a:solidFill>
                <a:latin typeface="Times New Roman"/>
              </a:rPr>
              <a:t>Документы передаются по предопределенным маршрутам (шаблонам). </a:t>
            </a:r>
            <a:endParaRPr b="0" lang="en-US" sz="2000" spc="-1" strike="noStrike">
              <a:solidFill>
                <a:srgbClr val="000000"/>
              </a:solidFill>
              <a:latin typeface="PragmaticaCTT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80960" y="1876320"/>
          <a:ext cx="7402680" cy="432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960" y="1876320"/>
                    <a:ext cx="7402680" cy="432612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76120" y="946080"/>
            <a:ext cx="5398920" cy="5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Маршрутизация документ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13400" y="3446640"/>
            <a:ext cx="22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38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утверждение </a:t>
            </a:r>
            <a:r>
              <a:rPr b="0" lang="ru-RU" sz="1800" spc="-1" strike="noStrike">
                <a:solidFill>
                  <a:srgbClr val="005380"/>
                </a:solidFill>
                <a:latin typeface="Times New Roman"/>
              </a:rPr>
              <a:t>ПСД </a:t>
            </a:r>
            <a:br>
              <a:rPr sz="1800"/>
            </a:br>
            <a:r>
              <a:rPr b="0" lang="ru-RU" sz="1800" spc="-1" strike="noStrike">
                <a:solidFill>
                  <a:srgbClr val="00538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ГИП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72" name=""/>
          <p:cNvSpPr/>
          <p:nvPr/>
        </p:nvSpPr>
        <p:spPr>
          <a:xfrm>
            <a:off x="6111720" y="1457280"/>
            <a:ext cx="282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80"/>
                </a:solidFill>
                <a:latin typeface="Times New Roman"/>
              </a:rPr>
              <a:t>Документы передаются по предопределенным маршрутам (шаблонам). </a:t>
            </a:r>
            <a:endParaRPr b="0" lang="en-US" sz="2000" spc="-1" strike="noStrike">
              <a:solidFill>
                <a:srgbClr val="000000"/>
              </a:solidFill>
              <a:latin typeface="PragmaticaCTT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57320" y="1812960"/>
          <a:ext cx="4562280" cy="42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7320" y="1812960"/>
                    <a:ext cx="4562280" cy="421956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413400" y="2616120"/>
            <a:ext cx="2222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8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выдача задания</a:t>
            </a:r>
            <a:br>
              <a:rPr sz="1800"/>
            </a:br>
            <a:r>
              <a:rPr b="0" lang="en-US" sz="1800" spc="-1" strike="noStrike">
                <a:solidFill>
                  <a:srgbClr val="00538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смежному отдел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ragmaticaC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76120" y="946080"/>
            <a:ext cx="5398920" cy="5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759c"/>
                </a:solidFill>
                <a:latin typeface="Times New Roman"/>
              </a:rPr>
              <a:t>Маршрутизация докум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167652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80"/>
                </a:solidFill>
                <a:latin typeface="Times New Roman"/>
              </a:rPr>
              <a:t>В процессе выполнения работ по шаблону происходит а</a:t>
            </a:r>
            <a:r>
              <a:rPr b="0" lang="en-US" sz="20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втоматическая обработка </a:t>
            </a:r>
            <a:r>
              <a:rPr b="0" lang="en-US" sz="2000" spc="-1" strike="noStrike">
                <a:solidFill>
                  <a:srgbClr val="005380"/>
                </a:solidFill>
                <a:latin typeface="Times New Roman"/>
              </a:rPr>
              <a:t>атрибутов </a:t>
            </a:r>
            <a:r>
              <a:rPr b="0" lang="en-US" sz="20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объектов</a:t>
            </a:r>
            <a:br>
              <a:rPr sz="2000"/>
            </a:br>
            <a:r>
              <a:rPr b="0" lang="en-US" sz="20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53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документов</a:t>
            </a:r>
            <a:r>
              <a:rPr b="0" lang="en-US" sz="2000" spc="-1" strike="noStrike">
                <a:solidFill>
                  <a:srgbClr val="005380"/>
                </a:solidFill>
                <a:latin typeface="Times New Roman"/>
              </a:rPr>
              <a:t> архива </a:t>
            </a:r>
            <a:endParaRPr b="0" lang="en-US" sz="20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78" name=""/>
          <p:cNvSpPr/>
          <p:nvPr/>
        </p:nvSpPr>
        <p:spPr>
          <a:xfrm>
            <a:off x="5854680" y="36781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8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изменение атрибутов (подписание документов, изменение статуса) 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28600" y="1905120"/>
          <a:ext cx="5334120" cy="42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05120"/>
                    <a:ext cx="5334120" cy="423864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895480" y="2743200"/>
            <a:ext cx="25146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809880"/>
            <a:ext cx="2514600" cy="838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4876920"/>
            <a:ext cx="2514600" cy="304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76120" y="946080"/>
            <a:ext cx="5398920" cy="5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759c"/>
                </a:solidFill>
                <a:latin typeface="Times New Roman"/>
              </a:rPr>
              <a:t>Маршрутизация докум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167652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80"/>
                </a:solidFill>
                <a:latin typeface="Times New Roman"/>
              </a:rPr>
              <a:t>В процессе выполнения работ по шаблону происходит а</a:t>
            </a:r>
            <a:r>
              <a:rPr b="0" lang="en-US" sz="20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втоматическая обработка </a:t>
            </a:r>
            <a:r>
              <a:rPr b="0" lang="en-US" sz="2000" spc="-1" strike="noStrike">
                <a:solidFill>
                  <a:srgbClr val="005380"/>
                </a:solidFill>
                <a:latin typeface="Times New Roman"/>
              </a:rPr>
              <a:t>атрибутов </a:t>
            </a:r>
            <a:r>
              <a:rPr b="0" lang="en-US" sz="20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объектов</a:t>
            </a:r>
            <a:br>
              <a:rPr sz="2000"/>
            </a:br>
            <a:r>
              <a:rPr b="0" lang="en-US" sz="20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53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документов</a:t>
            </a:r>
            <a:r>
              <a:rPr b="0" lang="en-US" sz="2000" spc="-1" strike="noStrike">
                <a:solidFill>
                  <a:srgbClr val="005380"/>
                </a:solidFill>
                <a:latin typeface="Times New Roman"/>
              </a:rPr>
              <a:t> архива </a:t>
            </a:r>
            <a:endParaRPr b="0" lang="en-US" sz="20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86" name=""/>
          <p:cNvSpPr/>
          <p:nvPr/>
        </p:nvSpPr>
        <p:spPr>
          <a:xfrm>
            <a:off x="5854680" y="36781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8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изменение атрибутов (подписание документов, изменение статуса) 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87" name=""/>
          <p:cNvSpPr/>
          <p:nvPr/>
        </p:nvSpPr>
        <p:spPr>
          <a:xfrm>
            <a:off x="5865840" y="477504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80"/>
                </a:solidFill>
                <a:latin typeface="Times New Roman"/>
              </a:rPr>
              <a:t>- определение (переопределение)</a:t>
            </a:r>
            <a:br>
              <a:rPr sz="1800"/>
            </a:br>
            <a:r>
              <a:rPr b="0" lang="en-US" sz="18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 прав доступа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2209680"/>
          <a:ext cx="519084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09680"/>
                    <a:ext cx="5190840" cy="357192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85800" y="3733920"/>
            <a:ext cx="3048120" cy="228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85800" y="4495680"/>
            <a:ext cx="4876920" cy="838440"/>
            <a:chOff x="685800" y="4495680"/>
            <a:chExt cx="4876920" cy="838440"/>
          </a:xfrm>
        </p:grpSpPr>
        <p:sp>
          <p:nvSpPr>
            <p:cNvPr id="192" name=""/>
            <p:cNvSpPr/>
            <p:nvPr/>
          </p:nvSpPr>
          <p:spPr>
            <a:xfrm>
              <a:off x="685800" y="4495680"/>
              <a:ext cx="1219320" cy="838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05120" y="4495680"/>
              <a:ext cx="1218960" cy="838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24080" y="4495680"/>
              <a:ext cx="1219320" cy="838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43400" y="4495680"/>
              <a:ext cx="1219320" cy="838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019920" y="1981080"/>
            <a:ext cx="283212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Фактические даты элемента плана-графика обновляются автоматически: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97" name=""/>
          <p:cNvSpPr/>
          <p:nvPr/>
        </p:nvSpPr>
        <p:spPr>
          <a:xfrm>
            <a:off x="6616800" y="3263760"/>
            <a:ext cx="2235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380"/>
                </a:solidFill>
                <a:latin typeface="Times New Roman"/>
              </a:rPr>
              <a:t>- при утверждении задания ГИПом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200" y="3139920"/>
          <a:ext cx="3819600" cy="352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200" y="3139920"/>
                    <a:ext cx="3819600" cy="352440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720800" y="1898640"/>
          <a:ext cx="4268880" cy="331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20800" y="1898640"/>
                    <a:ext cx="4268880" cy="331488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324160" y="6018120"/>
            <a:ext cx="638280" cy="38124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013200" y="3720960"/>
            <a:ext cx="2273040" cy="2432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04" name=""/>
          <p:cNvSpPr/>
          <p:nvPr/>
        </p:nvSpPr>
        <p:spPr>
          <a:xfrm>
            <a:off x="5321160" y="3503520"/>
            <a:ext cx="638280" cy="30492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76120" y="946080"/>
            <a:ext cx="5398920" cy="5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Маршрутизация докум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19920" y="1981080"/>
            <a:ext cx="283212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Фактические даты элемента плана-графика обновляются автоматически: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07" name=""/>
          <p:cNvSpPr/>
          <p:nvPr/>
        </p:nvSpPr>
        <p:spPr>
          <a:xfrm>
            <a:off x="6616800" y="3263760"/>
            <a:ext cx="2235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380"/>
                </a:solidFill>
                <a:latin typeface="Times New Roman"/>
              </a:rPr>
              <a:t>- при утверждении задания ГИПом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08" name=""/>
          <p:cNvSpPr/>
          <p:nvPr/>
        </p:nvSpPr>
        <p:spPr>
          <a:xfrm>
            <a:off x="6616800" y="4241880"/>
            <a:ext cx="22352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380"/>
                </a:solidFill>
                <a:latin typeface="Times New Roman"/>
              </a:rPr>
              <a:t>- при утверждении комплекта чертежей ГИПом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43000" y="3743280"/>
          <a:ext cx="3933720" cy="287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000" y="3743280"/>
                    <a:ext cx="3933720" cy="287676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471680" y="1844640"/>
          <a:ext cx="4600440" cy="360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1680" y="1844640"/>
                    <a:ext cx="4600440" cy="360036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222640" y="5967360"/>
            <a:ext cx="714240" cy="60948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619360" y="5244840"/>
            <a:ext cx="330120" cy="717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4633920"/>
            <a:ext cx="714240" cy="60948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076120" y="946080"/>
            <a:ext cx="5398920" cy="5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Маршрутизация докум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6440" y="931680"/>
            <a:ext cx="5064120" cy="5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Процесс проект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5118120"/>
            <a:ext cx="799920" cy="546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path path="rect">
              <a:fillToRect l="50000" t="50000" r="50000" b="50000"/>
            </a:path>
          </a:gradFill>
          <a:ln cap="sq"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ИПа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46" name=""/>
          <p:cNvSpPr/>
          <p:nvPr/>
        </p:nvSpPr>
        <p:spPr>
          <a:xfrm>
            <a:off x="5460840" y="1498680"/>
            <a:ext cx="336564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Схематичное представление процесса работы над проектом обустройства месторождения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5778360"/>
            <a:ext cx="6311880" cy="0"/>
          </a:xfrm>
          <a:prstGeom prst="line">
            <a:avLst/>
          </a:prstGeom>
          <a:ln w="255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48" name=""/>
          <p:cNvSpPr/>
          <p:nvPr/>
        </p:nvSpPr>
        <p:spPr>
          <a:xfrm>
            <a:off x="781200" y="5889600"/>
            <a:ext cx="1633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380"/>
                </a:solidFill>
                <a:latin typeface="Times New Roman"/>
              </a:rPr>
              <a:t>Заявка на проектирование</a:t>
            </a:r>
            <a:endParaRPr b="0" lang="en-US" sz="1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49" name=""/>
          <p:cNvSpPr/>
          <p:nvPr/>
        </p:nvSpPr>
        <p:spPr>
          <a:xfrm>
            <a:off x="6089760" y="5851440"/>
            <a:ext cx="15066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380"/>
                </a:solidFill>
                <a:latin typeface="Times New Roman"/>
              </a:rPr>
              <a:t>Сдача проекта заказчику</a:t>
            </a:r>
            <a:endParaRPr b="0" lang="en-US" sz="1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50" name=""/>
          <p:cNvSpPr/>
          <p:nvPr/>
        </p:nvSpPr>
        <p:spPr>
          <a:xfrm>
            <a:off x="4889520" y="3124080"/>
            <a:ext cx="1168560" cy="6224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path path="rect">
              <a:fillToRect l="50000" t="50000" r="50000" b="50000"/>
            </a:path>
          </a:gradFill>
          <a:ln cap="sq"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дача ПСД 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ГИПу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51" name=""/>
          <p:cNvSpPr/>
          <p:nvPr/>
        </p:nvSpPr>
        <p:spPr>
          <a:xfrm>
            <a:off x="6330960" y="5394240"/>
            <a:ext cx="7192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380"/>
                </a:solidFill>
                <a:latin typeface="Times New Roman"/>
              </a:rPr>
              <a:t>время</a:t>
            </a:r>
            <a:endParaRPr b="0" lang="en-US" sz="1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36560" y="3796920"/>
            <a:ext cx="0" cy="2629080"/>
          </a:xfrm>
          <a:prstGeom prst="line">
            <a:avLst/>
          </a:prstGeom>
          <a:ln w="1260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058080" y="2704680"/>
            <a:ext cx="0" cy="3670200"/>
          </a:xfrm>
          <a:prstGeom prst="line">
            <a:avLst/>
          </a:prstGeom>
          <a:ln w="1260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54" name=""/>
          <p:cNvSpPr/>
          <p:nvPr/>
        </p:nvSpPr>
        <p:spPr>
          <a:xfrm>
            <a:off x="2158920" y="1798560"/>
            <a:ext cx="223524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67f"/>
                </a:solidFill>
                <a:latin typeface="Times New Roman"/>
              </a:rPr>
              <a:t>Самый трудоемкий и многоаспектный процесс – работа отделов над проектом, в ходе которой происходит обмен информацией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55" name=""/>
          <p:cNvSpPr/>
          <p:nvPr/>
        </p:nvSpPr>
        <p:spPr>
          <a:xfrm>
            <a:off x="6337440" y="3301920"/>
            <a:ext cx="233676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67f"/>
                </a:solidFill>
                <a:latin typeface="Times New Roman"/>
              </a:rPr>
              <a:t>При этом планируется и контролируется не только сдача  проекта ГИПу и заказчику, но и обмен информацией между подразделениями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49440" y="3772080"/>
            <a:ext cx="3378240" cy="1346040"/>
            <a:chOff x="1549440" y="3772080"/>
            <a:chExt cx="3378240" cy="1346040"/>
          </a:xfrm>
        </p:grpSpPr>
        <p:sp>
          <p:nvSpPr>
            <p:cNvPr id="57" name=""/>
            <p:cNvSpPr/>
            <p:nvPr/>
          </p:nvSpPr>
          <p:spPr>
            <a:xfrm>
              <a:off x="1790640" y="4838760"/>
              <a:ext cx="1079640" cy="2538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5e75"/>
                </a:gs>
              </a:gsLst>
              <a:path path="rect">
                <a:fillToRect l="50000" t="50000" r="50000" b="50000"/>
              </a:path>
            </a:gradFill>
            <a:ln cap="sq"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ТХО</a:t>
              </a:r>
              <a:endParaRPr b="0" lang="en-US" sz="16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84480" y="4572000"/>
              <a:ext cx="1066680" cy="25416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5e75"/>
                </a:gs>
              </a:gsLst>
              <a:path path="rect">
                <a:fillToRect l="50000" t="50000" r="50000" b="50000"/>
              </a:path>
            </a:gradFill>
            <a:ln cap="sq"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ОГД</a:t>
              </a:r>
              <a:endParaRPr b="0" lang="en-US" sz="16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16120" y="4305240"/>
              <a:ext cx="1231920" cy="25416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5e75"/>
                </a:gs>
              </a:gsLst>
              <a:path path="rect">
                <a:fillToRect l="50000" t="50000" r="50000" b="50000"/>
              </a:path>
            </a:gradFill>
            <a:ln cap="sq"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АСО</a:t>
              </a:r>
              <a:endParaRPr b="0" lang="en-US" sz="16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8120" y="4038480"/>
              <a:ext cx="1193760" cy="25416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5e75"/>
                </a:gs>
              </a:gsLst>
              <a:path path="rect">
                <a:fillToRect l="50000" t="50000" r="50000" b="50000"/>
              </a:path>
            </a:gradFill>
            <a:ln cap="sq"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СТО</a:t>
              </a:r>
              <a:endParaRPr b="0" lang="en-US" sz="16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41600" y="3784680"/>
              <a:ext cx="1231920" cy="2538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005e75"/>
                </a:gs>
              </a:gsLst>
              <a:path path="rect">
                <a:fillToRect l="50000" t="50000" r="50000" b="50000"/>
              </a:path>
            </a:gradFill>
            <a:ln cap="sq"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ЭЛТО</a:t>
              </a:r>
              <a:endParaRPr b="0" lang="en-US" sz="16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49440" y="3772080"/>
              <a:ext cx="3378240" cy="1346040"/>
            </a:xfrm>
            <a:prstGeom prst="rect">
              <a:avLst/>
            </a:prstGeom>
            <a:noFill/>
            <a:ln w="12600">
              <a:solidFill>
                <a:srgbClr val="0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00200" y="3889440"/>
              <a:ext cx="1828800" cy="1076400"/>
            </a:xfrm>
            <a:custGeom>
              <a:avLst/>
              <a:gdLst/>
              <a:ahLst/>
              <a:rect l="l" t="t" r="r" b="b"/>
              <a:pathLst>
                <a:path w="1152" h="678">
                  <a:moveTo>
                    <a:pt x="116" y="678"/>
                  </a:moveTo>
                  <a:lnTo>
                    <a:pt x="0" y="676"/>
                  </a:lnTo>
                  <a:lnTo>
                    <a:pt x="0" y="2"/>
                  </a:lnTo>
                  <a:lnTo>
                    <a:pt x="1152" y="0"/>
                  </a:lnTo>
                </a:path>
              </a:pathLst>
            </a:custGeom>
            <a:noFill/>
            <a:ln w="12600">
              <a:solidFill>
                <a:srgbClr val="800000"/>
              </a:solidFill>
              <a:round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04880" y="4705200"/>
              <a:ext cx="56196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04880" y="4433760"/>
              <a:ext cx="100008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09560" y="4148280"/>
              <a:ext cx="142884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1440" y="3919680"/>
              <a:ext cx="1976400" cy="1047600"/>
            </a:xfrm>
            <a:custGeom>
              <a:avLst/>
              <a:gdLst/>
              <a:ahLst/>
              <a:rect l="l" t="t" r="r" b="b"/>
              <a:pathLst>
                <a:path w="1245" h="660">
                  <a:moveTo>
                    <a:pt x="0" y="660"/>
                  </a:moveTo>
                  <a:lnTo>
                    <a:pt x="1245" y="660"/>
                  </a:lnTo>
                  <a:lnTo>
                    <a:pt x="1245" y="0"/>
                  </a:lnTo>
                  <a:lnTo>
                    <a:pt x="1134" y="0"/>
                  </a:lnTo>
                </a:path>
              </a:pathLst>
            </a:custGeom>
            <a:noFill/>
            <a:ln w="12600">
              <a:solidFill>
                <a:srgbClr val="800000"/>
              </a:solidFill>
              <a:round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261960" y="4719600"/>
              <a:ext cx="159084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57400" y="4438800"/>
              <a:ext cx="99540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262040" y="4162320"/>
              <a:ext cx="58572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5803920" y="3233880"/>
            <a:ext cx="1595520" cy="1085760"/>
            <a:chOff x="5803920" y="3233880"/>
            <a:chExt cx="1595520" cy="1085760"/>
          </a:xfrm>
        </p:grpSpPr>
        <p:pic>
          <p:nvPicPr>
            <p:cNvPr id="218" name="disp" descr=""/>
            <p:cNvPicPr/>
            <p:nvPr/>
          </p:nvPicPr>
          <p:blipFill>
            <a:blip r:embed="rId2"/>
            <a:stretch/>
          </p:blipFill>
          <p:spPr>
            <a:xfrm>
              <a:off x="6167520" y="3598920"/>
              <a:ext cx="75384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803920" y="3233880"/>
              <a:ext cx="15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567f"/>
                  </a:solidFill>
                  <a:latin typeface="Times New Roman"/>
                </a:rPr>
                <a:t>Диспетчер</a:t>
              </a:r>
              <a:endParaRPr b="0" lang="en-US" sz="16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8200" y="946080"/>
            <a:ext cx="6478560" cy="5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Результат внедрения функциона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59240" y="1565280"/>
            <a:ext cx="48877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67f"/>
                </a:solidFill>
                <a:latin typeface="Times New Roman"/>
              </a:rPr>
              <a:t>Ранее проектировщики ПРИНОСИЛИ диспетчеру БУМАЖНУЮ справку о сдаче задания/комплекта, подписанную ГИПом, диспетчер ОТМЕЧАЛ эту дату в плане-графике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68280" y="3233880"/>
            <a:ext cx="1595520" cy="1096920"/>
            <a:chOff x="368280" y="3233880"/>
            <a:chExt cx="1595520" cy="1096920"/>
          </a:xfrm>
        </p:grpSpPr>
        <p:pic>
          <p:nvPicPr>
            <p:cNvPr id="223" name="user" descr=""/>
            <p:cNvPicPr/>
            <p:nvPr/>
          </p:nvPicPr>
          <p:blipFill>
            <a:blip r:embed="rId3"/>
            <a:stretch/>
          </p:blipFill>
          <p:spPr>
            <a:xfrm>
              <a:off x="782640" y="3598920"/>
              <a:ext cx="7081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368280" y="3233880"/>
              <a:ext cx="15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567f"/>
                  </a:solidFill>
                  <a:latin typeface="Times New Roman"/>
                </a:rPr>
                <a:t>Проектировщик</a:t>
              </a:r>
              <a:endParaRPr b="0" lang="en-US" sz="16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552760" y="3233880"/>
            <a:ext cx="871560" cy="1193760"/>
            <a:chOff x="2552760" y="3233880"/>
            <a:chExt cx="871560" cy="1193760"/>
          </a:xfrm>
        </p:grpSpPr>
        <p:pic>
          <p:nvPicPr>
            <p:cNvPr id="226" name="gip" descr=""/>
            <p:cNvPicPr/>
            <p:nvPr/>
          </p:nvPicPr>
          <p:blipFill>
            <a:blip r:embed="rId4"/>
            <a:stretch/>
          </p:blipFill>
          <p:spPr>
            <a:xfrm>
              <a:off x="2554200" y="359892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2552760" y="3233880"/>
              <a:ext cx="87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567f"/>
                  </a:solidFill>
                  <a:latin typeface="Times New Roman"/>
                </a:rPr>
                <a:t>ГИП</a:t>
              </a:r>
              <a:endParaRPr b="0" lang="en-US" sz="16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2320" y="3814920"/>
            <a:ext cx="827280" cy="1008000"/>
            <a:chOff x="5332320" y="3814920"/>
            <a:chExt cx="827280" cy="1008000"/>
          </a:xfrm>
        </p:grpSpPr>
        <p:sp>
          <p:nvSpPr>
            <p:cNvPr id="229" name=""/>
            <p:cNvSpPr/>
            <p:nvPr/>
          </p:nvSpPr>
          <p:spPr>
            <a:xfrm>
              <a:off x="5332320" y="3814920"/>
              <a:ext cx="827280" cy="361800"/>
            </a:xfrm>
            <a:prstGeom prst="rightArrow">
              <a:avLst>
                <a:gd name="adj1" fmla="val 50000"/>
                <a:gd name="adj2" fmla="val 57164"/>
              </a:avLst>
            </a:prstGeom>
            <a:solidFill>
              <a:srgbClr val="aafa9a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pic>
          <p:nvPicPr>
            <p:cNvPr id="230" name="doc_done" descr=""/>
            <p:cNvPicPr/>
            <p:nvPr/>
          </p:nvPicPr>
          <p:blipFill>
            <a:blip r:embed="rId5"/>
            <a:stretch/>
          </p:blipFill>
          <p:spPr>
            <a:xfrm>
              <a:off x="5506920" y="4330800"/>
              <a:ext cx="38916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3962520" y="3233880"/>
            <a:ext cx="1595160" cy="1096920"/>
            <a:chOff x="3962520" y="3233880"/>
            <a:chExt cx="1595160" cy="1096920"/>
          </a:xfrm>
        </p:grpSpPr>
        <p:pic>
          <p:nvPicPr>
            <p:cNvPr id="232" name="user" descr=""/>
            <p:cNvPicPr/>
            <p:nvPr/>
          </p:nvPicPr>
          <p:blipFill>
            <a:blip r:embed="rId6"/>
            <a:stretch/>
          </p:blipFill>
          <p:spPr>
            <a:xfrm>
              <a:off x="4402080" y="3598920"/>
              <a:ext cx="7081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962520" y="3233880"/>
              <a:ext cx="159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567f"/>
                  </a:solidFill>
                  <a:latin typeface="Times New Roman"/>
                </a:rPr>
                <a:t>Проектировщик</a:t>
              </a:r>
              <a:endParaRPr b="0" lang="en-US" sz="16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</p:grpSp>
      <p:pic>
        <p:nvPicPr>
          <p:cNvPr id="234" name="plan_1" descr=""/>
          <p:cNvPicPr/>
          <p:nvPr/>
        </p:nvPicPr>
        <p:blipFill>
          <a:blip r:embed="rId7"/>
          <a:stretch/>
        </p:blipFill>
        <p:spPr>
          <a:xfrm>
            <a:off x="7875720" y="3776760"/>
            <a:ext cx="503280" cy="446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881760" y="3814920"/>
            <a:ext cx="827280" cy="361800"/>
          </a:xfrm>
          <a:prstGeom prst="rightArrow">
            <a:avLst>
              <a:gd name="adj1" fmla="val 50000"/>
              <a:gd name="adj2" fmla="val 57164"/>
            </a:avLst>
          </a:prstGeom>
          <a:solidFill>
            <a:srgbClr val="aafa9a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440160" y="3814920"/>
            <a:ext cx="826920" cy="1008000"/>
            <a:chOff x="3440160" y="3814920"/>
            <a:chExt cx="826920" cy="1008000"/>
          </a:xfrm>
        </p:grpSpPr>
        <p:sp>
          <p:nvSpPr>
            <p:cNvPr id="237" name=""/>
            <p:cNvSpPr/>
            <p:nvPr/>
          </p:nvSpPr>
          <p:spPr>
            <a:xfrm>
              <a:off x="3440160" y="3814920"/>
              <a:ext cx="826920" cy="361800"/>
            </a:xfrm>
            <a:prstGeom prst="rightArrow">
              <a:avLst>
                <a:gd name="adj1" fmla="val 50000"/>
                <a:gd name="adj2" fmla="val 57139"/>
              </a:avLst>
            </a:prstGeom>
            <a:solidFill>
              <a:srgbClr val="aafa9a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pic>
          <p:nvPicPr>
            <p:cNvPr id="238" name="doc_done" descr=""/>
            <p:cNvPicPr/>
            <p:nvPr/>
          </p:nvPicPr>
          <p:blipFill>
            <a:blip r:embed="rId8"/>
            <a:stretch/>
          </p:blipFill>
          <p:spPr>
            <a:xfrm>
              <a:off x="3602160" y="4330800"/>
              <a:ext cx="38880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1636560" y="3814920"/>
            <a:ext cx="827280" cy="1008000"/>
            <a:chOff x="1636560" y="3814920"/>
            <a:chExt cx="827280" cy="1008000"/>
          </a:xfrm>
        </p:grpSpPr>
        <p:sp>
          <p:nvSpPr>
            <p:cNvPr id="240" name=""/>
            <p:cNvSpPr/>
            <p:nvPr/>
          </p:nvSpPr>
          <p:spPr>
            <a:xfrm>
              <a:off x="1636560" y="3814920"/>
              <a:ext cx="827280" cy="361800"/>
            </a:xfrm>
            <a:prstGeom prst="rightArrow">
              <a:avLst>
                <a:gd name="adj1" fmla="val 50000"/>
                <a:gd name="adj2" fmla="val 57164"/>
              </a:avLst>
            </a:prstGeom>
            <a:solidFill>
              <a:srgbClr val="aafa9a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pic>
          <p:nvPicPr>
            <p:cNvPr id="241" name="doc" descr=""/>
            <p:cNvPicPr/>
            <p:nvPr/>
          </p:nvPicPr>
          <p:blipFill>
            <a:blip r:embed="rId9"/>
            <a:stretch/>
          </p:blipFill>
          <p:spPr>
            <a:xfrm>
              <a:off x="1824120" y="4330800"/>
              <a:ext cx="388800" cy="49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8200" y="946080"/>
            <a:ext cx="6478560" cy="5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Результат внедрения функцион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038240" y="2895480"/>
            <a:ext cx="1595520" cy="1125720"/>
            <a:chOff x="1038240" y="2895480"/>
            <a:chExt cx="1595520" cy="1125720"/>
          </a:xfrm>
        </p:grpSpPr>
        <p:pic>
          <p:nvPicPr>
            <p:cNvPr id="244" name="user" descr=""/>
            <p:cNvPicPr/>
            <p:nvPr/>
          </p:nvPicPr>
          <p:blipFill>
            <a:blip r:embed="rId2"/>
            <a:stretch/>
          </p:blipFill>
          <p:spPr>
            <a:xfrm>
              <a:off x="1440000" y="3289320"/>
              <a:ext cx="70776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038240" y="2895480"/>
              <a:ext cx="15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567f"/>
                  </a:solidFill>
                  <a:latin typeface="Times New Roman"/>
                </a:rPr>
                <a:t>Проектировщик</a:t>
              </a:r>
              <a:endParaRPr b="0" lang="en-US" sz="16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84560" y="2895480"/>
            <a:ext cx="880920" cy="1157400"/>
            <a:chOff x="3184560" y="2895480"/>
            <a:chExt cx="880920" cy="1157400"/>
          </a:xfrm>
        </p:grpSpPr>
        <p:pic>
          <p:nvPicPr>
            <p:cNvPr id="247" name="gip" descr=""/>
            <p:cNvPicPr/>
            <p:nvPr/>
          </p:nvPicPr>
          <p:blipFill>
            <a:blip r:embed="rId3"/>
            <a:stretch/>
          </p:blipFill>
          <p:spPr>
            <a:xfrm>
              <a:off x="3211560" y="3224160"/>
              <a:ext cx="8539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184560" y="2895480"/>
              <a:ext cx="87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567f"/>
                  </a:solidFill>
                  <a:latin typeface="Times New Roman"/>
                </a:rPr>
                <a:t>ГИП</a:t>
              </a:r>
              <a:endParaRPr b="0" lang="en-US" sz="16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468600" y="1558800"/>
            <a:ext cx="43545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Теперь ГИП получает сообщение с заданием/комплектом, после утверждения которого СИСТЕМА СТАВИТ фактическую дату в план-график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pic>
        <p:nvPicPr>
          <p:cNvPr id="250" name="plan_1" descr=""/>
          <p:cNvPicPr/>
          <p:nvPr/>
        </p:nvPicPr>
        <p:blipFill>
          <a:blip r:embed="rId4"/>
          <a:stretch/>
        </p:blipFill>
        <p:spPr>
          <a:xfrm>
            <a:off x="7394400" y="3411360"/>
            <a:ext cx="503280" cy="44640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4759200" y="2895480"/>
            <a:ext cx="1595520" cy="1155960"/>
            <a:chOff x="4759200" y="2895480"/>
            <a:chExt cx="1595520" cy="1155960"/>
          </a:xfrm>
        </p:grpSpPr>
        <p:sp>
          <p:nvSpPr>
            <p:cNvPr id="252" name=""/>
            <p:cNvSpPr/>
            <p:nvPr/>
          </p:nvSpPr>
          <p:spPr>
            <a:xfrm>
              <a:off x="4759200" y="2895480"/>
              <a:ext cx="15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567f"/>
                  </a:solidFill>
                  <a:latin typeface="Times New Roman"/>
                </a:rPr>
                <a:t>Система</a:t>
              </a:r>
              <a:endParaRPr b="0" lang="en-US" sz="16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pic>
          <p:nvPicPr>
            <p:cNvPr id="253" name="system_2" descr=""/>
            <p:cNvPicPr/>
            <p:nvPr/>
          </p:nvPicPr>
          <p:blipFill>
            <a:blip r:embed="rId5">
              <a:lum contrast="36000"/>
            </a:blip>
            <a:stretch/>
          </p:blipFill>
          <p:spPr>
            <a:xfrm>
              <a:off x="5197320" y="3370320"/>
              <a:ext cx="703440" cy="68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"/>
          <p:cNvGrpSpPr/>
          <p:nvPr/>
        </p:nvGrpSpPr>
        <p:grpSpPr>
          <a:xfrm>
            <a:off x="2293920" y="3451320"/>
            <a:ext cx="827280" cy="860400"/>
            <a:chOff x="2293920" y="3451320"/>
            <a:chExt cx="827280" cy="860400"/>
          </a:xfrm>
        </p:grpSpPr>
        <p:sp>
          <p:nvSpPr>
            <p:cNvPr id="255" name=""/>
            <p:cNvSpPr/>
            <p:nvPr/>
          </p:nvSpPr>
          <p:spPr>
            <a:xfrm>
              <a:off x="2293920" y="3451320"/>
              <a:ext cx="827280" cy="361800"/>
            </a:xfrm>
            <a:prstGeom prst="rightArrow">
              <a:avLst>
                <a:gd name="adj1" fmla="val 50000"/>
                <a:gd name="adj2" fmla="val 57164"/>
              </a:avLst>
            </a:prstGeom>
            <a:solidFill>
              <a:srgbClr val="aafa9a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PragmaticaCTT"/>
              </a:endParaRPr>
            </a:p>
          </p:txBody>
        </p:sp>
        <p:pic>
          <p:nvPicPr>
            <p:cNvPr id="256" name="mail_2" descr=""/>
            <p:cNvPicPr/>
            <p:nvPr/>
          </p:nvPicPr>
          <p:blipFill>
            <a:blip r:embed="rId6">
              <a:lum contrast="-6000"/>
            </a:blip>
            <a:stretch/>
          </p:blipFill>
          <p:spPr>
            <a:xfrm>
              <a:off x="2403360" y="3992400"/>
              <a:ext cx="513000" cy="3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/>
          <p:cNvSpPr/>
          <p:nvPr/>
        </p:nvSpPr>
        <p:spPr>
          <a:xfrm>
            <a:off x="4110120" y="3435480"/>
            <a:ext cx="903240" cy="379440"/>
          </a:xfrm>
          <a:custGeom>
            <a:avLst/>
            <a:gdLst>
              <a:gd name="textAreaLeft" fmla="*/ 141120 w 903240"/>
              <a:gd name="textAreaRight" fmla="*/ 790560 w 903240"/>
              <a:gd name="textAreaTop" fmla="*/ 94680 h 379440"/>
              <a:gd name="textAreaBottom" fmla="*/ 284760 h 37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1e7eb"/>
          </a:soli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58" name=""/>
          <p:cNvSpPr/>
          <p:nvPr/>
        </p:nvSpPr>
        <p:spPr>
          <a:xfrm>
            <a:off x="6219720" y="3444840"/>
            <a:ext cx="903240" cy="392040"/>
          </a:xfrm>
          <a:custGeom>
            <a:avLst/>
            <a:gdLst>
              <a:gd name="textAreaLeft" fmla="*/ 141120 w 903240"/>
              <a:gd name="textAreaRight" fmla="*/ 790560 w 903240"/>
              <a:gd name="textAreaTop" fmla="*/ 97920 h 392040"/>
              <a:gd name="textAreaBottom" fmla="*/ 294120 h 392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1e7eb"/>
          </a:soli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59" name=""/>
          <p:cNvSpPr/>
          <p:nvPr/>
        </p:nvSpPr>
        <p:spPr>
          <a:xfrm>
            <a:off x="1271520" y="4556160"/>
            <a:ext cx="641196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Использование маршрутов документооборота позволило снять часть нагрузки с проектировщика и оптимизировать сами бизнес-процессы, в итоге увеличилась производительность труда и уменьшилось время прохождения документов 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019920" y="1981080"/>
            <a:ext cx="28321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Возможность контроля по одному элементу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61" name=""/>
          <p:cNvSpPr/>
          <p:nvPr/>
        </p:nvSpPr>
        <p:spPr>
          <a:xfrm>
            <a:off x="6629400" y="2654280"/>
            <a:ext cx="2235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380"/>
                </a:solidFill>
                <a:latin typeface="Times New Roman"/>
              </a:rPr>
              <a:t>- просроченные задания / комплекты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62" name=""/>
          <p:cNvSpPr/>
          <p:nvPr/>
        </p:nvSpPr>
        <p:spPr>
          <a:xfrm>
            <a:off x="6603840" y="3276720"/>
            <a:ext cx="22352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380"/>
                </a:solidFill>
                <a:latin typeface="Times New Roman"/>
              </a:rPr>
              <a:t>- сданные с опозданием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63" name=""/>
          <p:cNvSpPr/>
          <p:nvPr/>
        </p:nvSpPr>
        <p:spPr>
          <a:xfrm>
            <a:off x="6578640" y="3949560"/>
            <a:ext cx="22352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380"/>
                </a:solidFill>
                <a:latin typeface="Times New Roman"/>
              </a:rPr>
              <a:t>- сданные вовремя или раньше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990720" y="1836720"/>
          <a:ext cx="4572000" cy="458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36720"/>
                    <a:ext cx="4572000" cy="4581720"/>
                  </a:xfrm>
                  <a:prstGeom prst="rect">
                    <a:avLst/>
                  </a:prstGeom>
                  <a:ln w="936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838760" y="5129280"/>
            <a:ext cx="777960" cy="38088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67" name=""/>
          <p:cNvSpPr/>
          <p:nvPr/>
        </p:nvSpPr>
        <p:spPr>
          <a:xfrm>
            <a:off x="2019240" y="4633920"/>
            <a:ext cx="828720" cy="38088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68" name=""/>
          <p:cNvSpPr/>
          <p:nvPr/>
        </p:nvSpPr>
        <p:spPr>
          <a:xfrm>
            <a:off x="4826160" y="3186000"/>
            <a:ext cx="777600" cy="38124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69" name=""/>
          <p:cNvSpPr/>
          <p:nvPr/>
        </p:nvSpPr>
        <p:spPr>
          <a:xfrm>
            <a:off x="4838760" y="3782880"/>
            <a:ext cx="752400" cy="1270080"/>
          </a:xfrm>
          <a:custGeom>
            <a:avLst/>
            <a:gdLst>
              <a:gd name="textAreaLeft" fmla="*/ 18000 w 752400"/>
              <a:gd name="textAreaRight" fmla="*/ 734400 w 752400"/>
              <a:gd name="textAreaTop" fmla="*/ 18000 h 1270080"/>
              <a:gd name="textAreaBottom" fmla="*/ 1252080 h 1270080"/>
            </a:gdLst>
            <a:ahLst/>
            <a:rect l="textAreaLeft" t="textAreaTop" r="textAreaRight" b="textAreaBottom"/>
            <a:pathLst>
              <a:path w="21600" h="36455">
                <a:moveTo>
                  <a:pt x="1767" y="0"/>
                </a:moveTo>
                <a:arcTo wR="1767" hR="1767" stAng="16200000" swAng="-5400000"/>
                <a:lnTo>
                  <a:pt x="0" y="34688"/>
                </a:lnTo>
                <a:arcTo wR="1767" hR="1767" stAng="10800000" swAng="-5400000"/>
                <a:lnTo>
                  <a:pt x="19833" y="36455"/>
                </a:lnTo>
                <a:arcTo wR="1767" hR="1767" stAng="5400000" swAng="-5400000"/>
                <a:lnTo>
                  <a:pt x="21600" y="1767"/>
                </a:lnTo>
                <a:arcTo wR="1767" hR="1767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70" name=""/>
          <p:cNvSpPr/>
          <p:nvPr/>
        </p:nvSpPr>
        <p:spPr>
          <a:xfrm>
            <a:off x="2019240" y="5014800"/>
            <a:ext cx="828720" cy="22860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076480" y="946080"/>
            <a:ext cx="64692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Контроль исполнения плана-граф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076480" y="946080"/>
            <a:ext cx="6478560" cy="5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Контроль исполнения плана-граф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45200" y="1447920"/>
            <a:ext cx="339084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По объекту проектирования и комплексу в целом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52280" y="2112840"/>
          <a:ext cx="8790120" cy="456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112840"/>
                    <a:ext cx="8790120" cy="4562640"/>
                  </a:xfrm>
                  <a:prstGeom prst="rect">
                    <a:avLst/>
                  </a:prstGeom>
                  <a:ln w="936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76480" y="539280"/>
            <a:ext cx="500544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Преимущества принятой концепции плана-граф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93760" y="1752480"/>
            <a:ext cx="689616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- глубина дерева проекта и количество объектов в разделе Диспетчеризация меньше, чем в Заданиях и ПСД, сокращается время выборки объектов для отчета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78" name=""/>
          <p:cNvSpPr/>
          <p:nvPr/>
        </p:nvSpPr>
        <p:spPr>
          <a:xfrm>
            <a:off x="1193760" y="2793960"/>
            <a:ext cx="68961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- один сводный отчет по заданиям и ПСД вместо двух частных отчетов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79" name=""/>
          <p:cNvSpPr/>
          <p:nvPr/>
        </p:nvSpPr>
        <p:spPr>
          <a:xfrm>
            <a:off x="1193760" y="3556080"/>
            <a:ext cx="689616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- на систему легла нагрузка по синхронизации объектов документооборота с планом-графиком, но при этом сократилось время получения плана-графика конечным пользователем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80" name=""/>
          <p:cNvSpPr/>
          <p:nvPr/>
        </p:nvSpPr>
        <p:spPr>
          <a:xfrm>
            <a:off x="1193760" y="4635360"/>
            <a:ext cx="68961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- выполнены основные требования к функционалу, предъявляемые пользователями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74720" y="1892160"/>
            <a:ext cx="57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567f"/>
                </a:solidFill>
                <a:latin typeface="Times New Roman"/>
              </a:rPr>
              <a:t>Спасибо </a:t>
            </a:r>
            <a:br>
              <a:rPr sz="6000"/>
            </a:br>
            <a:r>
              <a:rPr b="1" i="1" lang="en-US" sz="6000" spc="-1" strike="noStrike">
                <a:solidFill>
                  <a:srgbClr val="00567f"/>
                </a:solidFill>
                <a:latin typeface="Times New Roman"/>
              </a:rPr>
              <a:t>за внимание</a:t>
            </a:r>
            <a:endParaRPr b="0" lang="en-US" sz="60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282" name=""/>
          <p:cNvSpPr txBox="1"/>
          <p:nvPr/>
        </p:nvSpPr>
        <p:spPr>
          <a:xfrm rot="21598800">
            <a:off x="795240" y="4906800"/>
            <a:ext cx="7491600" cy="4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40759c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Приведенные в презентации имена и цифры вымышлены</a:t>
            </a:r>
            <a:endParaRPr b="1" lang="en-US" sz="2400" spc="1" strike="noStrike">
              <a:ln w="9360">
                <a:solidFill>
                  <a:srgbClr val="40759c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46240" y="2243160"/>
          <a:ext cx="6297480" cy="380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2243160"/>
                    <a:ext cx="6297480" cy="380376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0360" y="949320"/>
            <a:ext cx="61293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Диспетчеризация проектного проце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78640" y="2184480"/>
            <a:ext cx="227340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67f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567f"/>
                </a:solidFill>
                <a:latin typeface="Times New Roman"/>
              </a:rPr>
              <a:t>сроки обмена информацией между смежными отделами (в форме заданий)</a:t>
            </a:r>
            <a:r>
              <a:rPr b="0" lang="ru-RU" sz="1800" spc="-1" strike="noStrike">
                <a:solidFill>
                  <a:srgbClr val="40759c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4064040"/>
            <a:ext cx="22860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67f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567f"/>
                </a:solidFill>
                <a:latin typeface="Times New Roman"/>
              </a:rPr>
              <a:t>сроки сдачи ПСД в НК и ГИПу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76" name=""/>
          <p:cNvSpPr/>
          <p:nvPr/>
        </p:nvSpPr>
        <p:spPr>
          <a:xfrm>
            <a:off x="312840" y="3570120"/>
            <a:ext cx="4922640" cy="244332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77" name=""/>
          <p:cNvSpPr/>
          <p:nvPr/>
        </p:nvSpPr>
        <p:spPr>
          <a:xfrm>
            <a:off x="5237280" y="3586320"/>
            <a:ext cx="887400" cy="2425680"/>
          </a:xfrm>
          <a:custGeom>
            <a:avLst/>
            <a:gdLst>
              <a:gd name="textAreaLeft" fmla="*/ 21240 w 887400"/>
              <a:gd name="textAreaRight" fmla="*/ 866160 w 887400"/>
              <a:gd name="textAreaTop" fmla="*/ 21240 h 2425680"/>
              <a:gd name="textAreaBottom" fmla="*/ 2404440 h 2425680"/>
            </a:gdLst>
            <a:ahLst/>
            <a:rect l="textAreaLeft" t="textAreaTop" r="textAreaRight" b="textAreaBottom"/>
            <a:pathLst>
              <a:path w="21600" h="59028">
                <a:moveTo>
                  <a:pt x="1767" y="0"/>
                </a:moveTo>
                <a:arcTo wR="1767" hR="1767" stAng="16200000" swAng="-5400000"/>
                <a:lnTo>
                  <a:pt x="0" y="57261"/>
                </a:lnTo>
                <a:arcTo wR="1767" hR="1767" stAng="10800000" swAng="-5400000"/>
                <a:lnTo>
                  <a:pt x="19833" y="59028"/>
                </a:lnTo>
                <a:arcTo wR="1767" hR="1767" stAng="5400000" swAng="-5400000"/>
                <a:lnTo>
                  <a:pt x="21600" y="1767"/>
                </a:lnTo>
                <a:arcTo wR="1767" hR="1767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30360" y="949320"/>
            <a:ext cx="61293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Структура документации проектного производства (направление ПИ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64160" y="2997360"/>
            <a:ext cx="227340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67f"/>
                </a:solidFill>
                <a:latin typeface="Times New Roman"/>
              </a:rPr>
              <a:t>- Раздел «Проектно-сметная документация», площадки, объекты по генплану, комплекты документов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80" name=""/>
          <p:cNvSpPr/>
          <p:nvPr/>
        </p:nvSpPr>
        <p:spPr>
          <a:xfrm>
            <a:off x="6375240" y="2044800"/>
            <a:ext cx="242604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67f"/>
                </a:solidFill>
                <a:latin typeface="Times New Roman"/>
              </a:rPr>
              <a:t>Дерево объектов </a:t>
            </a: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Lotsia PDM </a:t>
            </a:r>
            <a:r>
              <a:rPr b="0" lang="ru-RU" sz="1800" spc="-1" strike="noStrike">
                <a:solidFill>
                  <a:srgbClr val="00567f"/>
                </a:solidFill>
                <a:latin typeface="Times New Roman"/>
              </a:rPr>
              <a:t>повторяет структуру проекта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017800" y="2182680"/>
          <a:ext cx="3381120" cy="353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17800" y="2182680"/>
                    <a:ext cx="3381120" cy="353376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30360" y="949320"/>
            <a:ext cx="61293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Структура документации проектного производства (направление ПИ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64160" y="2997360"/>
            <a:ext cx="2273400" cy="16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67f"/>
                </a:solidFill>
                <a:latin typeface="Times New Roman"/>
              </a:rPr>
              <a:t>- Раздел «Проектно-сметная документация», площадки, объекты по генплану, комплекты документов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85" name=""/>
          <p:cNvSpPr/>
          <p:nvPr/>
        </p:nvSpPr>
        <p:spPr>
          <a:xfrm>
            <a:off x="6375240" y="2044800"/>
            <a:ext cx="242604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67f"/>
                </a:solidFill>
                <a:latin typeface="Times New Roman"/>
              </a:rPr>
              <a:t>Дерево объектов </a:t>
            </a: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Lotsia PDM </a:t>
            </a:r>
            <a:r>
              <a:rPr b="0" lang="ru-RU" sz="1800" spc="-1" strike="noStrike">
                <a:solidFill>
                  <a:srgbClr val="00567f"/>
                </a:solidFill>
                <a:latin typeface="Times New Roman"/>
              </a:rPr>
              <a:t>повторяет структуру проекта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65400" y="2324160"/>
          <a:ext cx="480996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2324160"/>
                    <a:ext cx="4809960" cy="312408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426360" y="4648320"/>
            <a:ext cx="227304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67f"/>
                </a:solidFill>
                <a:latin typeface="Times New Roman"/>
              </a:rPr>
              <a:t>- плановые и фактические даты сдачи комплекта в НК и ГИПу 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89" name=""/>
          <p:cNvSpPr/>
          <p:nvPr/>
        </p:nvSpPr>
        <p:spPr>
          <a:xfrm>
            <a:off x="1481040" y="4802040"/>
            <a:ext cx="3144960" cy="64008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0360" y="949320"/>
            <a:ext cx="61293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Структура документации проектного производства (направление ПИ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64160" y="2997360"/>
            <a:ext cx="227340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67f"/>
                </a:solidFill>
                <a:latin typeface="Times New Roman"/>
              </a:rPr>
              <a:t>- раздел «Задания», папки заданий, задания смежникам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92" name=""/>
          <p:cNvSpPr/>
          <p:nvPr/>
        </p:nvSpPr>
        <p:spPr>
          <a:xfrm>
            <a:off x="6375240" y="2044800"/>
            <a:ext cx="242604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67f"/>
                </a:solidFill>
                <a:latin typeface="Times New Roman"/>
              </a:rPr>
              <a:t>Дерево объектов </a:t>
            </a: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Lotsia PDM </a:t>
            </a:r>
            <a:r>
              <a:rPr b="0" lang="ru-RU" sz="1800" spc="-1" strike="noStrike">
                <a:solidFill>
                  <a:srgbClr val="00567f"/>
                </a:solidFill>
                <a:latin typeface="Times New Roman"/>
              </a:rPr>
              <a:t>повторяет структуру проекта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033640" y="2181240"/>
          <a:ext cx="3400200" cy="386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33640" y="2181240"/>
                    <a:ext cx="3400200" cy="386712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0360" y="949320"/>
            <a:ext cx="61293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Структура документации проектного производства (направление ПИ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64160" y="2997360"/>
            <a:ext cx="227340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67f"/>
                </a:solidFill>
                <a:latin typeface="Times New Roman"/>
              </a:rPr>
              <a:t>- раздел «Задания», папки заданий, задания смежникам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97" name=""/>
          <p:cNvSpPr/>
          <p:nvPr/>
        </p:nvSpPr>
        <p:spPr>
          <a:xfrm>
            <a:off x="6375240" y="2044800"/>
            <a:ext cx="242604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67f"/>
                </a:solidFill>
                <a:latin typeface="Times New Roman"/>
              </a:rPr>
              <a:t>Дерево объектов </a:t>
            </a: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Lotsia PDM </a:t>
            </a:r>
            <a:r>
              <a:rPr b="0" lang="ru-RU" sz="1800" spc="-1" strike="noStrike">
                <a:solidFill>
                  <a:srgbClr val="00567f"/>
                </a:solidFill>
                <a:latin typeface="Times New Roman"/>
              </a:rPr>
              <a:t>повторяет структуру проекта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98" name=""/>
          <p:cNvSpPr/>
          <p:nvPr/>
        </p:nvSpPr>
        <p:spPr>
          <a:xfrm>
            <a:off x="6451560" y="3962520"/>
            <a:ext cx="22734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67f"/>
                </a:solidFill>
                <a:latin typeface="Times New Roman"/>
              </a:rPr>
              <a:t>- плановая и фактическая даты выдачи задания смежникам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93800" y="2043000"/>
          <a:ext cx="4029120" cy="376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3800" y="2043000"/>
                    <a:ext cx="4029120" cy="376236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862280" y="5106960"/>
            <a:ext cx="2128680" cy="42372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0360" y="949320"/>
            <a:ext cx="612936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Реализация плана-графика в АСУ П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79560" y="2514600"/>
            <a:ext cx="43052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- информация о всех контрольных датах должна быть в одном документе (отчете)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04" name=""/>
          <p:cNvSpPr/>
          <p:nvPr/>
        </p:nvSpPr>
        <p:spPr>
          <a:xfrm>
            <a:off x="888840" y="1841400"/>
            <a:ext cx="40388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Основные требования к функционалу: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05" name=""/>
          <p:cNvSpPr/>
          <p:nvPr/>
        </p:nvSpPr>
        <p:spPr>
          <a:xfrm>
            <a:off x="1879560" y="3492360"/>
            <a:ext cx="5016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- по возможности должен быть сохранен существующий вид «бумажного» плана-графика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06" name=""/>
          <p:cNvSpPr/>
          <p:nvPr/>
        </p:nvSpPr>
        <p:spPr>
          <a:xfrm>
            <a:off x="1879560" y="4521240"/>
            <a:ext cx="5016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67f"/>
                </a:solidFill>
                <a:latin typeface="Times New Roman"/>
              </a:rPr>
              <a:t>- процесс ведения плана-графика должен быть автоматизированным, понятным и удобным</a:t>
            </a:r>
            <a:endParaRPr b="0" lang="en-US" sz="1800" spc="-1" strike="noStrike">
              <a:solidFill>
                <a:srgbClr val="000000"/>
              </a:solidFill>
              <a:latin typeface="PragmaticaCT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89040" y="1765440"/>
          <a:ext cx="4481280" cy="458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765440"/>
                    <a:ext cx="4481280" cy="4587840"/>
                  </a:xfrm>
                  <a:prstGeom prst="rect">
                    <a:avLst/>
                  </a:prstGeom>
                  <a:ln w="19080">
                    <a:solidFill>
                      <a:srgbClr val="00567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50800" y="949320"/>
            <a:ext cx="626904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759c"/>
                </a:solidFill>
                <a:latin typeface="Times New Roman"/>
              </a:rPr>
              <a:t>Реализация плана-графика в АСУ П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45120" y="1619280"/>
            <a:ext cx="28195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67f"/>
                </a:solidFill>
                <a:latin typeface="Times New Roman"/>
              </a:rPr>
              <a:t>План-график в АСУ ПД состоит из элементов, которые содержат следующие данные:</a:t>
            </a:r>
            <a:endParaRPr b="0" lang="en-US" sz="20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11" name=""/>
          <p:cNvSpPr/>
          <p:nvPr/>
        </p:nvSpPr>
        <p:spPr>
          <a:xfrm>
            <a:off x="6616800" y="3162240"/>
            <a:ext cx="22096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5380"/>
                </a:solidFill>
                <a:latin typeface="Times New Roman"/>
              </a:rPr>
              <a:t>выдающее подразделение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12" name=""/>
          <p:cNvSpPr/>
          <p:nvPr/>
        </p:nvSpPr>
        <p:spPr>
          <a:xfrm>
            <a:off x="6616800" y="3962520"/>
            <a:ext cx="236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5380"/>
                </a:solidFill>
                <a:latin typeface="Times New Roman"/>
              </a:rPr>
              <a:t>принимающее подразделение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4762440"/>
            <a:ext cx="19940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38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5380"/>
                </a:solidFill>
                <a:latin typeface="Times New Roman"/>
              </a:rPr>
              <a:t>плановые и фактические даты</a:t>
            </a:r>
            <a:endParaRPr b="0" lang="en-US" sz="16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14" name=""/>
          <p:cNvSpPr/>
          <p:nvPr/>
        </p:nvSpPr>
        <p:spPr>
          <a:xfrm>
            <a:off x="1155600" y="3238560"/>
            <a:ext cx="1270080" cy="53352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15" name=""/>
          <p:cNvSpPr/>
          <p:nvPr/>
        </p:nvSpPr>
        <p:spPr>
          <a:xfrm>
            <a:off x="2781360" y="2235240"/>
            <a:ext cx="863640" cy="3949560"/>
          </a:xfrm>
          <a:custGeom>
            <a:avLst/>
            <a:gdLst>
              <a:gd name="textAreaLeft" fmla="*/ 20520 w 863640"/>
              <a:gd name="textAreaRight" fmla="*/ 843120 w 863640"/>
              <a:gd name="textAreaTop" fmla="*/ 20520 h 3949560"/>
              <a:gd name="textAreaBottom" fmla="*/ 3929040 h 3949560"/>
            </a:gdLst>
            <a:ahLst/>
            <a:rect l="textAreaLeft" t="textAreaTop" r="textAreaRight" b="textAreaBottom"/>
            <a:pathLst>
              <a:path w="21600" h="98748">
                <a:moveTo>
                  <a:pt x="1767" y="0"/>
                </a:moveTo>
                <a:arcTo wR="1767" hR="1767" stAng="16200000" swAng="-5400000"/>
                <a:lnTo>
                  <a:pt x="0" y="96981"/>
                </a:lnTo>
                <a:arcTo wR="1767" hR="1767" stAng="10800000" swAng="-5400000"/>
                <a:lnTo>
                  <a:pt x="19833" y="98748"/>
                </a:lnTo>
                <a:arcTo wR="1767" hR="1767" stAng="5400000" swAng="-5400000"/>
                <a:lnTo>
                  <a:pt x="21600" y="1767"/>
                </a:lnTo>
                <a:arcTo wR="1767" hR="1767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16" name=""/>
          <p:cNvSpPr/>
          <p:nvPr/>
        </p:nvSpPr>
        <p:spPr>
          <a:xfrm>
            <a:off x="787320" y="4699080"/>
            <a:ext cx="368280" cy="533160"/>
          </a:xfrm>
          <a:custGeom>
            <a:avLst/>
            <a:gdLst>
              <a:gd name="textAreaLeft" fmla="*/ 8640 w 368280"/>
              <a:gd name="textAreaRight" fmla="*/ 359640 w 368280"/>
              <a:gd name="textAreaTop" fmla="*/ 8640 h 533160"/>
              <a:gd name="textAreaBottom" fmla="*/ 524520 h 533160"/>
            </a:gdLst>
            <a:ahLst/>
            <a:rect l="textAreaLeft" t="textAreaTop" r="textAreaRight" b="textAreaBottom"/>
            <a:pathLst>
              <a:path w="21600" h="31261">
                <a:moveTo>
                  <a:pt x="1767" y="0"/>
                </a:moveTo>
                <a:arcTo wR="1767" hR="1767" stAng="16200000" swAng="-5400000"/>
                <a:lnTo>
                  <a:pt x="0" y="29494"/>
                </a:lnTo>
                <a:arcTo wR="1767" hR="1767" stAng="10800000" swAng="-5400000"/>
                <a:lnTo>
                  <a:pt x="19833" y="31261"/>
                </a:lnTo>
                <a:arcTo wR="1767" hR="1767" stAng="5400000" swAng="-5400000"/>
                <a:lnTo>
                  <a:pt x="21600" y="1767"/>
                </a:lnTo>
                <a:arcTo wR="1767" hR="1767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17" name=""/>
          <p:cNvSpPr/>
          <p:nvPr/>
        </p:nvSpPr>
        <p:spPr>
          <a:xfrm>
            <a:off x="3683160" y="2235240"/>
            <a:ext cx="1333440" cy="3949560"/>
          </a:xfrm>
          <a:custGeom>
            <a:avLst/>
            <a:gdLst>
              <a:gd name="textAreaLeft" fmla="*/ 31680 w 1333440"/>
              <a:gd name="textAreaRight" fmla="*/ 1301760 w 1333440"/>
              <a:gd name="textAreaTop" fmla="*/ 31680 h 3949560"/>
              <a:gd name="textAreaBottom" fmla="*/ 3917880 h 3949560"/>
            </a:gdLst>
            <a:ahLst/>
            <a:rect l="textAreaLeft" t="textAreaTop" r="textAreaRight" b="textAreaBottom"/>
            <a:pathLst>
              <a:path w="21600" h="63966">
                <a:moveTo>
                  <a:pt x="1767" y="0"/>
                </a:moveTo>
                <a:arcTo wR="1767" hR="1767" stAng="16200000" swAng="-5400000"/>
                <a:lnTo>
                  <a:pt x="0" y="62199"/>
                </a:lnTo>
                <a:arcTo wR="1767" hR="1767" stAng="10800000" swAng="-5400000"/>
                <a:lnTo>
                  <a:pt x="19833" y="63966"/>
                </a:lnTo>
                <a:arcTo wR="1767" hR="1767" stAng="5400000" swAng="-5400000"/>
                <a:lnTo>
                  <a:pt x="21600" y="1767"/>
                </a:lnTo>
                <a:arcTo wR="1767" hR="1767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  <p:sp>
        <p:nvSpPr>
          <p:cNvPr id="118" name=""/>
          <p:cNvSpPr/>
          <p:nvPr/>
        </p:nvSpPr>
        <p:spPr>
          <a:xfrm>
            <a:off x="1174680" y="4699080"/>
            <a:ext cx="1270080" cy="533160"/>
          </a:xfrm>
          <a:prstGeom prst="roundRect">
            <a:avLst>
              <a:gd name="adj" fmla="val 81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PragmaticaCT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16:51:42Z</dcterms:created>
  <dc:creator>Отдел Информационных Технологий</dc:creator>
  <dc:description/>
  <dc:language>en-US</dc:language>
  <cp:lastModifiedBy>Administrator</cp:lastModifiedBy>
  <dcterms:modified xsi:type="dcterms:W3CDTF">2005-09-23T08:09:57Z</dcterms:modified>
  <cp:revision>482</cp:revision>
  <dc:subject/>
  <dc:title>ООО "ТюменНИИгипрогаз"</dc:title>
</cp:coreProperties>
</file>