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7FB-8EB0-41ED-A606-1DA8CAB8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4020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880-D1C6-4EAF-8B0B-AB2E2FC5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4020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4020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710-A393-4211-BFF7-35D1E5B3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4020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4020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4020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CAC-EDCB-4BD8-B05E-C6E415A8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B89-3323-4B81-B918-A5DDBC52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5D3-ADC1-4D73-8AC3-E5F2284D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09E-A64D-498D-828C-6BDEF68F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433-300C-4859-A850-6AA94907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EAF-034E-40FF-9A62-C364E42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4020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1AF-1B08-4FD0-ACA0-90EA6D58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4020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9D0-547B-477F-A99D-811B3F33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4020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788-65FD-4CB4-8554-EB66F6BE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EF34-174F-45BE-A131-AC517FB65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-ls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2876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0360" y="21924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 Cyr"/>
              </a:rPr>
              <a:t>Новые возможности </a:t>
            </a:r>
            <a:r>
              <a:rPr b="1" lang="ru-RU" sz="60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системы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Times New Roman Cyr"/>
              </a:rPr>
              <a:t>Lotsia PDM</a:t>
            </a:r>
            <a:r>
              <a:rPr b="1" lang="ru-RU" sz="6000" spc="-1" strike="noStrike">
                <a:solidFill>
                  <a:srgbClr val="ffcc00"/>
                </a:solidFill>
                <a:latin typeface="Times New Roman Cyr"/>
              </a:rPr>
              <a:t> </a:t>
            </a:r>
            <a:r>
              <a:rPr b="1" lang="en-US" sz="6000" spc="-1" strike="noStrike">
                <a:solidFill>
                  <a:srgbClr val="ffcc00"/>
                </a:solidFill>
                <a:latin typeface="Times New Roman Cyr"/>
              </a:rPr>
              <a:t>PLUS</a:t>
            </a:r>
            <a:r>
              <a:rPr b="1" lang="ru-RU" sz="6000" spc="-1" strike="noStrike" baseline="30000">
                <a:solidFill>
                  <a:srgbClr val="ffcc00"/>
                </a:solidFill>
                <a:latin typeface="Times New Roman Cyr"/>
              </a:rPr>
              <a:t>® </a:t>
            </a:r>
            <a:r>
              <a:rPr b="1" lang="en-US" sz="6000" spc="-1" strike="noStrike">
                <a:solidFill>
                  <a:srgbClr val="ffcc00"/>
                </a:solidFill>
                <a:latin typeface="Times New Roman Cyr"/>
              </a:rPr>
              <a:t>v4.x</a:t>
            </a:r>
            <a:endParaRPr b="1" lang="en-US" sz="60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5867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онференция по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LM.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24 сентября 2004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 Cyr"/>
              </a:rPr>
              <a:t>Интерфейс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исковые атрибутивные формы в Окнах поиска и выбора объе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_Pict" descr=""/>
          <p:cNvPicPr/>
          <p:nvPr/>
        </p:nvPicPr>
        <p:blipFill>
          <a:blip r:embed="rId1"/>
          <a:stretch/>
        </p:blipFill>
        <p:spPr>
          <a:xfrm>
            <a:off x="3416400" y="1828800"/>
            <a:ext cx="5715000" cy="2913120"/>
          </a:xfrm>
          <a:prstGeom prst="rect">
            <a:avLst/>
          </a:prstGeom>
          <a:ln w="0">
            <a:noFill/>
          </a:ln>
        </p:spPr>
      </p:pic>
      <p:pic>
        <p:nvPicPr>
          <p:cNvPr id="80" name="_Pict" descr=""/>
          <p:cNvPicPr/>
          <p:nvPr/>
        </p:nvPicPr>
        <p:blipFill>
          <a:blip r:embed="rId2"/>
          <a:stretch/>
        </p:blipFill>
        <p:spPr>
          <a:xfrm>
            <a:off x="25560" y="2514600"/>
            <a:ext cx="4724280" cy="376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032-BAE0-4604-9768-EC18281B6B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Интерфейс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п связи по умолчанию для открытия Окна про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циональное 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браж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писк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т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окуме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а которые пользователь имеет разрешающие права досту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_Pict" descr=""/>
          <p:cNvPicPr/>
          <p:nvPr/>
        </p:nvPicPr>
        <p:blipFill>
          <a:blip r:embed="rId1"/>
          <a:stretch/>
        </p:blipFill>
        <p:spPr>
          <a:xfrm>
            <a:off x="5486400" y="4876920"/>
            <a:ext cx="3429000" cy="731880"/>
          </a:xfrm>
          <a:prstGeom prst="rect">
            <a:avLst/>
          </a:prstGeom>
          <a:ln w="0">
            <a:noFill/>
          </a:ln>
        </p:spPr>
      </p:pic>
      <p:pic>
        <p:nvPicPr>
          <p:cNvPr id="84" name="_Pict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5486400" cy="65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468-89D9-450E-966F-67F5B8D85D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Редактор действий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(встроенный макроязык)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недрен редактор фор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вязка к типам объектов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Копирование шаблонного документа архив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 действиях и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PI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– работа с документами архив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озможность прямого определения объектов системы по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Запуск отчетов и рабо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B6D-CCDA-49AB-92E5-D72D05F461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Работа с документами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но просмотра и аннотирования докумен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грация с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S Word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Поддержка компонентных документов (гиперссылок) 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полей докумен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можность настройки запуска приложений с использованием информации из системного реест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но поиска и удаления документов для администрат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 глубины просмотра ссылок для компонентных докумен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группы ссылок для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tley Micro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EDA-DAA4-423E-A8EE-9B3A808CA8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imes New Roman Cyr"/>
              </a:rPr>
              <a:t>Workflow</a:t>
            </a:r>
            <a:endParaRPr b="1" lang="en-US" sz="96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A01-1FC9-4763-8549-7F0DE2AEDA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Интерфейс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вязка действий, исполнителей и документов к группе объектов карты в единой графической форм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менные можно создавать не только в свойствах шаблонов, но и при настройке форм или действ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тключение списка исполнителей в формах переход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зможность создания пользовательских кноп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олее информативный сервер автоматических эта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астройка областей Окна заданий и сообщ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лобальная возможность назначения заместите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A45-F44A-4ACF-A9F7-3E2E850E7C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_Pict" descr=""/>
          <p:cNvPicPr/>
          <p:nvPr/>
        </p:nvPicPr>
        <p:blipFill>
          <a:blip r:embed="rId1"/>
          <a:stretch/>
        </p:blipFill>
        <p:spPr>
          <a:xfrm>
            <a:off x="152280" y="2093760"/>
            <a:ext cx="8839440" cy="3697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 Cyr"/>
              </a:rPr>
              <a:t>Интерфейс получения информации</a:t>
            </a:r>
            <a:endParaRPr b="1" lang="en-US" sz="40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38E-4D44-4DF8-857C-7E4EECDB0D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Персональные параметры оповещения</a:t>
            </a:r>
            <a:r>
              <a:rPr b="0" lang="ru-RU" sz="36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 </a:t>
            </a:r>
            <a:endParaRPr b="1" lang="en-US" sz="3600" spc="-1" strike="noStrike">
              <a:solidFill>
                <a:srgbClr val="ffcc00"/>
              </a:solidFill>
              <a:latin typeface="Times New Roman Cyr"/>
            </a:endParaRPr>
          </a:p>
        </p:txBody>
      </p:sp>
      <p:pic>
        <p:nvPicPr>
          <p:cNvPr id="95" name="С_к_8" descr=""/>
          <p:cNvPicPr/>
          <p:nvPr/>
        </p:nvPicPr>
        <p:blipFill>
          <a:blip r:embed="rId1"/>
          <a:stretch/>
        </p:blipFill>
        <p:spPr>
          <a:xfrm>
            <a:off x="784080" y="1482840"/>
            <a:ext cx="7750440" cy="522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C98-E016-4A97-A40B-ACA6529A10D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Оповещ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ение</a:t>
            </a:r>
            <a:r>
              <a:rPr b="1" lang="en-US" sz="32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 о памятных датах</a:t>
            </a:r>
            <a:endParaRPr b="1" lang="en-US" sz="3200" spc="-1" strike="noStrike">
              <a:solidFill>
                <a:srgbClr val="ffcc00"/>
              </a:solidFill>
              <a:latin typeface="Times New Roman Cyr"/>
            </a:endParaRPr>
          </a:p>
        </p:txBody>
      </p:sp>
      <p:pic>
        <p:nvPicPr>
          <p:cNvPr id="97" name="С_к_7" descr=""/>
          <p:cNvPicPr/>
          <p:nvPr/>
        </p:nvPicPr>
        <p:blipFill>
          <a:blip r:embed="rId1"/>
          <a:stretch/>
        </p:blipFill>
        <p:spPr>
          <a:xfrm>
            <a:off x="0" y="2486160"/>
            <a:ext cx="9144000" cy="23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54A-B4A0-46C8-A1D3-62E508DAFA8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Голосование</a:t>
            </a:r>
            <a:endParaRPr b="1" lang="en-US" sz="3600" spc="-1" strike="noStrike">
              <a:solidFill>
                <a:srgbClr val="ffcc00"/>
              </a:solidFill>
              <a:latin typeface="Times New Roman Cyr"/>
            </a:endParaRPr>
          </a:p>
        </p:txBody>
      </p:sp>
      <p:pic>
        <p:nvPicPr>
          <p:cNvPr id="99" name="С_к_9" descr=""/>
          <p:cNvPicPr/>
          <p:nvPr/>
        </p:nvPicPr>
        <p:blipFill>
          <a:blip r:embed="rId1"/>
          <a:stretch/>
        </p:blipFill>
        <p:spPr>
          <a:xfrm>
            <a:off x="50760" y="2068560"/>
            <a:ext cx="9040680" cy="357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336-DAC3-4A1B-961F-63C767B3AF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 Cyr"/>
              </a:rPr>
              <a:t>С марта 2003 года добавлено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 Cyr"/>
              </a:rPr>
              <a:t>БОЛЕЕ</a:t>
            </a:r>
            <a:r>
              <a:rPr b="1" lang="en-US" sz="6000" spc="-1" strike="noStrike">
                <a:solidFill>
                  <a:srgbClr val="ffffff"/>
                </a:solidFill>
                <a:latin typeface="Times New Roman Cyr"/>
              </a:rPr>
              <a:t> 130</a:t>
            </a:r>
            <a:br>
              <a:rPr sz="6000"/>
            </a:br>
            <a:r>
              <a:rPr b="1" lang="en-US" sz="4400" spc="-1" strike="noStrike">
                <a:solidFill>
                  <a:srgbClr val="ffffff"/>
                </a:solidFill>
                <a:latin typeface="Times New Roman Cyr"/>
              </a:rPr>
              <a:t>новых возможностей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14F-7D0C-4831-A526-5B1BB0C5C9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848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Работа с данными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граничение списка возможных значений переменных типа «Пользователь» (исполнителе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менные с типом значения «Массив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можно использовани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QL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’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мпорт сообщения внешней почтовой системы во внутреннее сообщ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147-8BC8-4D73-93FA-6254820367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Массивы значений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струментарий для обработки массивов – около 30 специальных функ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ы массиво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недр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крывающиеся в отдельном Окне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могут быть многоуровневые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матическое и ручное формирование значений массив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ение консолидированных фор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едрение в форму массив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L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’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– богатейшие возможности настройки сценария работы без помощи разработч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819-3B98-4666-AB78-63F48DA15A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Действия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вляются 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ависим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лемен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м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р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можность организации цикл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ставка действия из списка уже имеющих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пирование действ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жно 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я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рядок следования стр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ешено добавлять одну и ту же переменную несколько ра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правление формами задач и активностью кнопок Окна задач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бытийный аппа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70F-60A7-4AAD-9D09-B010B4A1C3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Разное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тимизация скорости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намическое управление ветвлен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онтроля исполнения можно посмотреть значения переменных (удобно для отладк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грация с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S Word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отправка сообщений, запуск рабо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п звукового сигнала при получении сообщ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определенная переменная, определяющая ко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х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тверждение отправки сообщ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нопка «Применить» в свойствах кар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073-C641-4258-964F-6A866E5E94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Массивы и события. Пример 1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pic>
        <p:nvPicPr>
          <p:cNvPr id="109" name="1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2755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39A-5769-438E-BF20-1EF95A09BA9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Массивы и события. Пример 2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4200" y="1905120"/>
            <a:ext cx="8548920" cy="3809880"/>
            <a:chOff x="214200" y="1905120"/>
            <a:chExt cx="8548920" cy="3809880"/>
          </a:xfrm>
        </p:grpSpPr>
        <p:pic>
          <p:nvPicPr>
            <p:cNvPr id="112" name="_Pict" descr=""/>
            <p:cNvPicPr/>
            <p:nvPr/>
          </p:nvPicPr>
          <p:blipFill>
            <a:blip r:embed="rId1"/>
            <a:stretch/>
          </p:blipFill>
          <p:spPr>
            <a:xfrm>
              <a:off x="214200" y="1905120"/>
              <a:ext cx="4640400" cy="20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_Pict" descr=""/>
            <p:cNvPicPr/>
            <p:nvPr/>
          </p:nvPicPr>
          <p:blipFill>
            <a:blip r:embed="rId2"/>
            <a:stretch/>
          </p:blipFill>
          <p:spPr>
            <a:xfrm>
              <a:off x="533520" y="3200400"/>
              <a:ext cx="7456320" cy="1298520"/>
            </a:xfrm>
            <a:prstGeom prst="rect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pic>
          <p:nvPicPr>
            <p:cNvPr id="114" name="_Pict" descr=""/>
            <p:cNvPicPr/>
            <p:nvPr/>
          </p:nvPicPr>
          <p:blipFill>
            <a:blip r:embed="rId3"/>
            <a:stretch/>
          </p:blipFill>
          <p:spPr>
            <a:xfrm>
              <a:off x="1128600" y="4379760"/>
              <a:ext cx="7405920" cy="1335240"/>
            </a:xfrm>
            <a:prstGeom prst="rect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sp>
          <p:nvSpPr>
            <p:cNvPr id="115" name=""/>
            <p:cNvSpPr/>
            <p:nvPr/>
          </p:nvSpPr>
          <p:spPr>
            <a:xfrm>
              <a:off x="900000" y="3124080"/>
              <a:ext cx="18288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19520" y="2133720"/>
              <a:ext cx="19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Начало работ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00800" y="5105520"/>
              <a:ext cx="838440" cy="228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5840" y="426708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81480" y="312408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Загрузка данны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62600" y="4309920"/>
              <a:ext cx="380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равка и обновление данны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171-DAF1-46C4-8983-780FE9EEEAD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63036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Массивы и события. Пример 3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1219320"/>
            <a:ext cx="9144000" cy="5333760"/>
            <a:chOff x="0" y="1219320"/>
            <a:chExt cx="9144000" cy="5333760"/>
          </a:xfrm>
        </p:grpSpPr>
        <p:pic>
          <p:nvPicPr>
            <p:cNvPr id="123" name="_1" descr="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6705720" cy="32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_2" descr=""/>
            <p:cNvPicPr/>
            <p:nvPr/>
          </p:nvPicPr>
          <p:blipFill>
            <a:blip r:embed="rId2"/>
            <a:stretch/>
          </p:blipFill>
          <p:spPr>
            <a:xfrm>
              <a:off x="1752480" y="3086280"/>
              <a:ext cx="5334120" cy="29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_3" descr=""/>
            <p:cNvPicPr/>
            <p:nvPr/>
          </p:nvPicPr>
          <p:blipFill>
            <a:blip r:embed="rId3"/>
            <a:stretch/>
          </p:blipFill>
          <p:spPr>
            <a:xfrm>
              <a:off x="2666880" y="4890960"/>
              <a:ext cx="6477120" cy="16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36E-AFC8-42DF-81FB-D206BE9E614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52280" y="685800"/>
            <a:ext cx="9448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Массивы и события. Пример 4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27" name=""/>
          <p:cNvSpPr/>
          <p:nvPr/>
        </p:nvSpPr>
        <p:spPr>
          <a:xfrm>
            <a:off x="1604880" y="13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_Pict" descr=""/>
          <p:cNvPicPr/>
          <p:nvPr/>
        </p:nvPicPr>
        <p:blipFill>
          <a:blip r:embed="rId1"/>
          <a:stretch/>
        </p:blipFill>
        <p:spPr>
          <a:xfrm>
            <a:off x="28440" y="1371600"/>
            <a:ext cx="6067440" cy="2220840"/>
          </a:xfrm>
          <a:prstGeom prst="rect">
            <a:avLst/>
          </a:prstGeom>
          <a:ln w="0">
            <a:noFill/>
          </a:ln>
        </p:spPr>
      </p:pic>
      <p:pic>
        <p:nvPicPr>
          <p:cNvPr id="129" name="_Pict" descr=""/>
          <p:cNvPicPr/>
          <p:nvPr/>
        </p:nvPicPr>
        <p:blipFill>
          <a:blip r:embed="rId2"/>
          <a:stretch/>
        </p:blipFill>
        <p:spPr>
          <a:xfrm>
            <a:off x="1828800" y="2590920"/>
            <a:ext cx="5486400" cy="2149200"/>
          </a:xfrm>
          <a:prstGeom prst="rect">
            <a:avLst/>
          </a:prstGeom>
          <a:ln w="0">
            <a:noFill/>
          </a:ln>
        </p:spPr>
      </p:pic>
      <p:pic>
        <p:nvPicPr>
          <p:cNvPr id="130" name="_Pict" descr=""/>
          <p:cNvPicPr/>
          <p:nvPr/>
        </p:nvPicPr>
        <p:blipFill>
          <a:blip r:embed="rId3"/>
          <a:stretch/>
        </p:blipFill>
        <p:spPr>
          <a:xfrm>
            <a:off x="2819520" y="3505320"/>
            <a:ext cx="6324480" cy="27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E22-69A6-4303-83AB-289CDD0419E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88394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и многое другое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AD6-FFCE-40E7-B611-8D438E1749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imes New Roman Cyr"/>
              </a:rPr>
              <a:t>Спасибо за внимание!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cc00"/>
                </a:solidFill>
                <a:latin typeface="Times New Roman Cyr"/>
              </a:rPr>
              <a:t>http://www.lotsia.com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 Cyr"/>
              </a:rPr>
              <a:t>http://www.lplm.ru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22B-3622-4EA3-9707-2B18F60315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Общие изменения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матическое обновление клиентской части програм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убокое распространение возможностей по настройке интерфейса, в т.ч. динамическое управление всеми свойствами элементов экранных и выходных форм (цвет, шрифт, размер, расположение, видимость и т.п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исание таблиц базы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3DB-53F2-479A-A6F9-C297523835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imes New Roman Cyr"/>
              </a:rPr>
              <a:t>PDM</a:t>
            </a:r>
            <a:endParaRPr b="1" lang="en-US" sz="96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484-3C9B-4241-BEB2-36A5035CF0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жим учета первич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ходим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зменение 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бу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ект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спринимается как изменение проекта, а не объ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иптография (ЭЦП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Данные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pic>
        <p:nvPicPr>
          <p:cNvPr id="51" name="1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419360" cy="1547640"/>
          </a:xfrm>
          <a:prstGeom prst="rect">
            <a:avLst/>
          </a:prstGeom>
          <a:ln w="0">
            <a:noFill/>
          </a:ln>
        </p:spPr>
      </p:pic>
      <p:pic>
        <p:nvPicPr>
          <p:cNvPr id="52" name="_Pict" descr=""/>
          <p:cNvPicPr/>
          <p:nvPr/>
        </p:nvPicPr>
        <p:blipFill>
          <a:blip r:embed="rId2"/>
          <a:stretch/>
        </p:blipFill>
        <p:spPr>
          <a:xfrm>
            <a:off x="76320" y="3657600"/>
            <a:ext cx="5943600" cy="1316160"/>
          </a:xfrm>
          <a:prstGeom prst="rect">
            <a:avLst/>
          </a:prstGeom>
          <a:ln w="0">
            <a:noFill/>
          </a:ln>
        </p:spPr>
      </p:pic>
      <p:pic>
        <p:nvPicPr>
          <p:cNvPr id="53" name="_Pict" descr=""/>
          <p:cNvPicPr/>
          <p:nvPr/>
        </p:nvPicPr>
        <p:blipFill>
          <a:blip r:embed="rId3"/>
          <a:stretch/>
        </p:blipFill>
        <p:spPr>
          <a:xfrm>
            <a:off x="4800600" y="5049720"/>
            <a:ext cx="3478320" cy="12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373-0069-4FDB-9C00-B5C685C778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Быстродействие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величена скорость импорта объек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величена скорость работы PartyAP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_Pict" descr=""/>
          <p:cNvPicPr/>
          <p:nvPr/>
        </p:nvPicPr>
        <p:blipFill>
          <a:blip r:embed="rId1"/>
          <a:stretch/>
        </p:blipFill>
        <p:spPr>
          <a:xfrm>
            <a:off x="4221000" y="2666880"/>
            <a:ext cx="3551400" cy="139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FBC-04A2-4F0F-A866-3F443C34E6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7600" y="3045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Скрипты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914400"/>
            <a:ext cx="9144000" cy="5943600"/>
            <a:chOff x="0" y="914400"/>
            <a:chExt cx="9144000" cy="5943600"/>
          </a:xfrm>
        </p:grpSpPr>
        <p:pic>
          <p:nvPicPr>
            <p:cNvPr id="59" name="_Pict" descr=""/>
            <p:cNvPicPr/>
            <p:nvPr/>
          </p:nvPicPr>
          <p:blipFill>
            <a:blip r:embed="rId1"/>
            <a:stretch/>
          </p:blipFill>
          <p:spPr>
            <a:xfrm>
              <a:off x="2743200" y="914400"/>
              <a:ext cx="6400800" cy="3332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0" name="_Pict" descr=""/>
            <p:cNvPicPr/>
            <p:nvPr/>
          </p:nvPicPr>
          <p:blipFill>
            <a:blip r:embed="rId2"/>
            <a:stretch/>
          </p:blipFill>
          <p:spPr>
            <a:xfrm>
              <a:off x="0" y="2255760"/>
              <a:ext cx="3048120" cy="2773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1" name="_Pict" descr=""/>
            <p:cNvPicPr/>
            <p:nvPr/>
          </p:nvPicPr>
          <p:blipFill>
            <a:blip r:embed="rId3"/>
            <a:stretch/>
          </p:blipFill>
          <p:spPr>
            <a:xfrm>
              <a:off x="1295280" y="4373640"/>
              <a:ext cx="3048120" cy="24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2" name="_Pict" descr=""/>
            <p:cNvPicPr/>
            <p:nvPr/>
          </p:nvPicPr>
          <p:blipFill>
            <a:blip r:embed="rId4"/>
            <a:stretch/>
          </p:blipFill>
          <p:spPr>
            <a:xfrm>
              <a:off x="5410080" y="3726000"/>
              <a:ext cx="3429000" cy="3132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" name=""/>
            <p:cNvSpPr/>
            <p:nvPr/>
          </p:nvSpPr>
          <p:spPr>
            <a:xfrm>
              <a:off x="7543800" y="2743200"/>
              <a:ext cx="457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09680" y="3657600"/>
              <a:ext cx="457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05320" y="4915080"/>
              <a:ext cx="457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24680" y="4648320"/>
              <a:ext cx="5335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8F9-D399-4B6C-A75C-4EE8378084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520" y="60912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Скрипты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6320" y="901800"/>
            <a:ext cx="9067680" cy="5943600"/>
            <a:chOff x="76320" y="901800"/>
            <a:chExt cx="9067680" cy="5943600"/>
          </a:xfrm>
        </p:grpSpPr>
        <p:pic>
          <p:nvPicPr>
            <p:cNvPr id="69" name="_snap" descr=""/>
            <p:cNvPicPr/>
            <p:nvPr/>
          </p:nvPicPr>
          <p:blipFill>
            <a:blip r:embed="rId1"/>
            <a:stretch/>
          </p:blipFill>
          <p:spPr>
            <a:xfrm>
              <a:off x="2209680" y="2086200"/>
              <a:ext cx="6934320" cy="47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_snap" descr=""/>
            <p:cNvPicPr/>
            <p:nvPr/>
          </p:nvPicPr>
          <p:blipFill>
            <a:blip r:embed="rId2"/>
            <a:stretch/>
          </p:blipFill>
          <p:spPr>
            <a:xfrm>
              <a:off x="76320" y="901800"/>
              <a:ext cx="2182680" cy="3017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71" name="_snap" descr=""/>
            <p:cNvPicPr/>
            <p:nvPr/>
          </p:nvPicPr>
          <p:blipFill>
            <a:blip r:embed="rId3"/>
            <a:stretch/>
          </p:blipFill>
          <p:spPr>
            <a:xfrm>
              <a:off x="628560" y="3492720"/>
              <a:ext cx="2114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_snap" descr=""/>
            <p:cNvPicPr/>
            <p:nvPr/>
          </p:nvPicPr>
          <p:blipFill>
            <a:blip r:embed="rId4"/>
            <a:stretch/>
          </p:blipFill>
          <p:spPr>
            <a:xfrm>
              <a:off x="1295280" y="4483080"/>
              <a:ext cx="211464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99E-836E-4D24-B614-D489DAEE8A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7600" y="457200"/>
            <a:ext cx="5486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Интерфейс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лная настройк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кранных фор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кна проек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ключение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тключение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мена порядка следова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орм Окна проек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_Pict" descr=""/>
          <p:cNvPicPr/>
          <p:nvPr/>
        </p:nvPicPr>
        <p:blipFill>
          <a:blip r:embed="rId1"/>
          <a:stretch/>
        </p:blipFill>
        <p:spPr>
          <a:xfrm>
            <a:off x="3962520" y="1143000"/>
            <a:ext cx="5181480" cy="2301840"/>
          </a:xfrm>
          <a:prstGeom prst="rect">
            <a:avLst/>
          </a:prstGeom>
          <a:ln w="0">
            <a:noFill/>
          </a:ln>
        </p:spPr>
      </p:pic>
      <p:pic>
        <p:nvPicPr>
          <p:cNvPr id="76" name="_Pict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5181480" cy="31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C7F-C05A-4D76-AD93-EFE4D13FFD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58:47Z</dcterms:created>
  <dc:creator/>
  <dc:description/>
  <dc:language>en-US</dc:language>
  <cp:lastModifiedBy> </cp:lastModifiedBy>
  <dcterms:modified xsi:type="dcterms:W3CDTF">2004-09-23T10:41:03Z</dcterms:modified>
  <cp:revision>559</cp:revision>
  <dc:subject/>
  <dc:title>Новые возможности системы  Lotsia PDM Plus® v4.x</dc:title>
</cp:coreProperties>
</file>