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F45C-97D9-4D15-9FA5-3ADFA6EF04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8DC5-AD2A-4915-BA1C-76A7E26857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F23-8D6C-4C24-A860-86D7EFE2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11A-D16C-4E97-86C2-7C5ACDD1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2AB-8D64-40D7-B5F4-B52D1202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D20-FDFE-4D27-BBF3-4484C37F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5BB-1C89-4F92-A4CA-0D361F2C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264-6A1C-4E80-8D11-40DA79BF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D52-9E19-458C-BDF9-E15752E9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176-15A8-46B3-B4D4-2DCC7141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6D0-5778-4581-B66E-865512FB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5CC-95A8-46C5-87C3-1209690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E2B-E8B2-4F84-8360-C944716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BEE-C7D6-4A68-83D2-2265B20D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1B07-B7BB-4618-BB53-4E1C8387DD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-ls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0360" y="21924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 Cyr"/>
              </a:rPr>
              <a:t> </a:t>
            </a:r>
            <a:r>
              <a:rPr b="1" lang="ru-RU" sz="4800" spc="-1" strike="noStrike">
                <a:solidFill>
                  <a:srgbClr val="ff9900"/>
                </a:solidFill>
                <a:latin typeface="Times New Roman Cyr"/>
              </a:rPr>
              <a:t>Комплексная автоматизация многопрофильных, территориально-распределенных предприятий на базе PLM системы </a:t>
            </a:r>
            <a:br>
              <a:rPr sz="4800"/>
            </a:br>
            <a:r>
              <a:rPr b="1" lang="ru-RU" sz="4800" spc="-1" strike="noStrike">
                <a:solidFill>
                  <a:srgbClr val="ff9900"/>
                </a:solidFill>
                <a:latin typeface="Times New Roman Cyr"/>
              </a:rPr>
              <a:t>Lotsia PLM</a:t>
            </a:r>
            <a:r>
              <a:rPr b="1" lang="ru-RU" sz="48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58672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4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ентября 2004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Опциональные модули: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Web-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серв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Web_PartY" descr=""/>
          <p:cNvPicPr/>
          <p:nvPr/>
        </p:nvPicPr>
        <p:blipFill>
          <a:blip r:embed="rId1"/>
          <a:stretch/>
        </p:blipFill>
        <p:spPr>
          <a:xfrm>
            <a:off x="1066680" y="2198520"/>
            <a:ext cx="6629400" cy="37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AA5-9635-41D5-A6EC-10FC9B4B8A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Интеграция с системой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ERP (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«Координатор»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Автоматиз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ац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задач складского уч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роизводств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М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ежцеховы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перемещ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омплектаци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и отгрузки, 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разукомплект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ределе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себестоимости проду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ланирова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загрузки производства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Реальная поддержка концепци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</a:rPr>
              <a:t>PL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34B-C36E-4DC7-91E3-F0EE3F1E30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Интеграция с системой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ERP </a:t>
            </a:r>
            <a:r>
              <a:rPr b="1" i="1" lang="ru-RU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Формирование заказу производству в системе </a:t>
            </a:r>
            <a:r>
              <a:rPr b="1" i="1" lang="en-US" sz="36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Lotsia ERP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438280"/>
          <a:ext cx="59976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438280"/>
                    <a:ext cx="59976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CE0-7829-4ACD-A2DB-B8FD93E967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7760" y="818640"/>
            <a:ext cx="8705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 Cyr"/>
              </a:rPr>
              <a:t>Разработка функциональных приложений для системы </a:t>
            </a:r>
            <a:r>
              <a:rPr b="1" lang="en-US" sz="3200" spc="-1" strike="noStrike">
                <a:solidFill>
                  <a:srgbClr val="ffcc00"/>
                </a:solidFill>
                <a:latin typeface="Times New Roman Cyr"/>
              </a:rPr>
              <a:t>Lotsia® PDM 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artY%20API" descr=""/>
          <p:cNvPicPr/>
          <p:nvPr/>
        </p:nvPicPr>
        <p:blipFill>
          <a:blip r:embed="rId1"/>
          <a:stretch/>
        </p:blipFill>
        <p:spPr>
          <a:xfrm>
            <a:off x="316080" y="1852560"/>
            <a:ext cx="882792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580-275C-45E8-BF3A-C38697A60E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Программно-аппаратный комплекс по управлению технической документацией на основе </a:t>
            </a: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Lotsia</a:t>
            </a:r>
            <a:r>
              <a:rPr b="1" lang="en-US" sz="3600" spc="-1" strike="noStrike" baseline="30000">
                <a:solidFill>
                  <a:srgbClr val="ffcc00"/>
                </a:solidFill>
                <a:latin typeface="Times New Roman Cyr"/>
              </a:rPr>
              <a:t>®</a:t>
            </a: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 PDM P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Цифровые широкоформатные инженерные системы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Xer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Цифровая система на баз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</a:rPr>
              <a:t>Xerox 510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60036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Одновременное сканирование, обработка и печ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Печать подбо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Прерывание печати для коп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Подборки различных форм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Пакетная печа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Печать по заданному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IP-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адре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49565" t="0" r="8967" b="0"/>
          <a:stretch/>
        </p:blipFill>
        <p:spPr>
          <a:xfrm>
            <a:off x="7620120" y="160020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2438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imes New Roman Cyr"/>
              </a:rPr>
              <a:t>Многоуровневое решение в одной систе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imes New Roman Cyr"/>
              </a:rPr>
              <a:t>Дружественный интерфей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imes New Roman Cyr"/>
              </a:rPr>
              <a:t>Доступность и про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XEROX%20510dp" descr=""/>
          <p:cNvPicPr/>
          <p:nvPr/>
        </p:nvPicPr>
        <p:blipFill>
          <a:blip r:embed="rId2"/>
          <a:stretch/>
        </p:blipFill>
        <p:spPr>
          <a:xfrm>
            <a:off x="6553080" y="3367080"/>
            <a:ext cx="2590920" cy="227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163" t="0" r="50833" b="14902"/>
          <a:stretch/>
        </p:blipFill>
        <p:spPr>
          <a:xfrm>
            <a:off x="5486400" y="5181480"/>
            <a:ext cx="15238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33A-48DC-4C4A-9F48-E4017AF3C0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Утилита пакетной печати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DBprint</a:t>
            </a:r>
            <a:r>
              <a:rPr b="1" lang="en-US" sz="2800" spc="-1" strike="noStrike">
                <a:solidFill>
                  <a:srgbClr val="ffcc00"/>
                </a:solidFill>
                <a:latin typeface="Times New Roman Cyr"/>
              </a:rPr>
              <a:t> (</a:t>
            </a: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разработчик – компания ИВ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63" t="0" r="50833" b="14902"/>
          <a:stretch/>
        </p:blipFill>
        <p:spPr>
          <a:xfrm>
            <a:off x="6400800" y="281952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39" name="dbprint" descr=""/>
          <p:cNvPicPr/>
          <p:nvPr/>
        </p:nvPicPr>
        <p:blipFill>
          <a:blip r:embed="rId2"/>
          <a:stretch/>
        </p:blipFill>
        <p:spPr>
          <a:xfrm>
            <a:off x="685800" y="1886040"/>
            <a:ext cx="557064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6D8-B879-425E-9212-AD1886F79E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Архитектура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DBpr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19320" y="1025640"/>
          <a:ext cx="711972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25640"/>
                    <a:ext cx="711972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7741800" y="14130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6000" y="2060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69800" y="2637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98108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print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D2D-98C7-45DB-8F49-9304766AC3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Возможности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DBprint v 1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Автоматизированная печать документов различных типов, привязанных к объектам 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Lotsia PDM PLUS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, и содержащихся в электронном архи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Система настроек, основанная на использовании профилей, позволяет систематизировать и автоматизировать операции связанные с выпуском различных комплектов доку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оддержка различных типов файлов через механизм подключаемых модулей (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plug-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Возможность создания подборок документов из электронного архи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E96-A6EE-43C3-AAAB-54E4B15150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Параметры профил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 Cyr"/>
                <a:ea typeface="Times New Roman"/>
              </a:rPr>
              <a:t>глубина обхода дерева проекта при печати</a:t>
            </a:r>
            <a:r>
              <a:rPr b="0" lang="ru-RU" sz="2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– позволяет определить, должны ли печататься документы всего дерева или какого-то определённого уровн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 Cyr"/>
                <a:ea typeface="Times New Roman"/>
              </a:rPr>
              <a:t>фильтры на печать определённых типов объектов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 Cyr"/>
                <a:ea typeface="Times New Roman"/>
              </a:rPr>
              <a:t>Lotsia PDM PLUS</a:t>
            </a:r>
            <a:r>
              <a:rPr b="0" lang="en-US" sz="2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– позволяет распечатать документы, привязанные к объектам определённых типов. Например, можно распечатать все сборочные и монтажные черте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 Cyr"/>
                <a:ea typeface="Times New Roman"/>
              </a:rPr>
              <a:t>сортировка печатаемых документов</a:t>
            </a:r>
            <a:r>
              <a:rPr b="0" lang="ru-RU" sz="2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– данная настройка полезна при формировании комплектов документации и позволяет определить порядок печати документов. Возможна сортировка как по типам объектов (например, сначала спецификации, затем чертежи и т.д.), так и по значениям атрибутов (например, по наименованию). Также возможна комбинация этих двух способ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 Cyr"/>
                <a:ea typeface="Times New Roman"/>
              </a:rPr>
              <a:t>исключение дублирования копий документов при печат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Дело в том, что один объект может несколько раз входить в проект и печатать дубликаты не всегда нуж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1B8-2D93-41F9-9E6B-A734628BE2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Обзор дополнительных программных модулей Lotsia</a:t>
            </a:r>
            <a:r>
              <a:rPr b="1" lang="en-US" sz="4400" spc="-1" strike="noStrike" baseline="30000">
                <a:solidFill>
                  <a:srgbClr val="ffcc00"/>
                </a:solidFill>
                <a:latin typeface="Times New Roman Cyr"/>
                <a:ea typeface="Times New Roman"/>
              </a:rPr>
              <a:t>®</a:t>
            </a:r>
            <a:r>
              <a:rPr b="1" lang="ru-RU" sz="6000" spc="-1" strike="noStrike">
                <a:solidFill>
                  <a:srgbClr val="ffcc00"/>
                </a:solidFill>
                <a:latin typeface="Times New Roman Cyr"/>
                <a:ea typeface="Times New Roman"/>
              </a:rPr>
              <a:t> PDM PLUS, интеграция</a:t>
            </a:r>
            <a:r>
              <a:rPr b="1" lang="ru-RU" sz="6000" spc="-1" strike="noStrike">
                <a:solidFill>
                  <a:srgbClr val="ffcc00"/>
                </a:solidFill>
                <a:latin typeface="Arial Narrow"/>
                <a:ea typeface="Times New Roman"/>
              </a:rPr>
              <a:t> с САПР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Процесс печа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уск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Bprin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Настрой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Определение критериев отбора и сортировки документов, входящих в подбор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одключение модулей печати различных типов файлов. При необходимости их настрой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Сохранение данных в именованном профиле для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ia PDM PLU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Выбор объекта – корня дерева проекта, который необходимо распечат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уск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Bprin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Печ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Выбор профиля печати. Установка параметров печа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еч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136-39F4-4C6C-BCEE-AF228761F1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905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 Cyr"/>
              </a:rPr>
              <a:t>Спасибо за внимание!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h</a:t>
            </a: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ttp://www.lotsia.com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http://www.lplm.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F83-A64B-40AD-A10B-91B8FA038D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52640" y="729720"/>
            <a:ext cx="9296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Работа в распределенной среде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(</a:t>
            </a: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пример реализаци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9480" y="1828800"/>
            <a:ext cx="7848360" cy="4485960"/>
            <a:chOff x="609480" y="1828800"/>
            <a:chExt cx="7848360" cy="4485960"/>
          </a:xfrm>
        </p:grpSpPr>
        <p:sp>
          <p:nvSpPr>
            <p:cNvPr id="55" name=""/>
            <p:cNvSpPr/>
            <p:nvPr/>
          </p:nvSpPr>
          <p:spPr>
            <a:xfrm>
              <a:off x="1719720" y="3076920"/>
              <a:ext cx="1371600" cy="131076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нтральна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Б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computr1"/>
            <p:cNvSpPr/>
            <p:nvPr/>
          </p:nvSpPr>
          <p:spPr>
            <a:xfrm>
              <a:off x="3157200" y="2005560"/>
              <a:ext cx="587880" cy="686160"/>
            </a:xfrm>
            <a:prstGeom prst="pi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63640" y="5750640"/>
              <a:ext cx="1175760" cy="56160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филиала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63640" y="3451320"/>
              <a:ext cx="1175760" cy="56160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филиала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98480" y="1944360"/>
              <a:ext cx="1175760" cy="56160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филиала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computr2"/>
            <p:cNvSpPr/>
            <p:nvPr/>
          </p:nvSpPr>
          <p:spPr>
            <a:xfrm>
              <a:off x="6358320" y="1891080"/>
              <a:ext cx="644760" cy="61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computr2"/>
            <p:cNvSpPr/>
            <p:nvPr/>
          </p:nvSpPr>
          <p:spPr>
            <a:xfrm>
              <a:off x="6496560" y="2016000"/>
              <a:ext cx="645120" cy="61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computr2"/>
            <p:cNvSpPr/>
            <p:nvPr/>
          </p:nvSpPr>
          <p:spPr>
            <a:xfrm>
              <a:off x="6627600" y="2140560"/>
              <a:ext cx="644760" cy="61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computr2"/>
            <p:cNvSpPr/>
            <p:nvPr/>
          </p:nvSpPr>
          <p:spPr>
            <a:xfrm>
              <a:off x="6627600" y="2140560"/>
              <a:ext cx="644760" cy="61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computr2"/>
            <p:cNvSpPr/>
            <p:nvPr/>
          </p:nvSpPr>
          <p:spPr>
            <a:xfrm>
              <a:off x="6423120" y="3522960"/>
              <a:ext cx="645120" cy="61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computr2"/>
            <p:cNvSpPr/>
            <p:nvPr/>
          </p:nvSpPr>
          <p:spPr>
            <a:xfrm>
              <a:off x="6554160" y="3647880"/>
              <a:ext cx="644760" cy="61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computr2"/>
            <p:cNvSpPr/>
            <p:nvPr/>
          </p:nvSpPr>
          <p:spPr>
            <a:xfrm>
              <a:off x="6684840" y="3771360"/>
              <a:ext cx="644760" cy="61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computr2"/>
            <p:cNvSpPr/>
            <p:nvPr/>
          </p:nvSpPr>
          <p:spPr>
            <a:xfrm>
              <a:off x="6227280" y="5448960"/>
              <a:ext cx="645120" cy="61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computr2"/>
            <p:cNvSpPr/>
            <p:nvPr/>
          </p:nvSpPr>
          <p:spPr>
            <a:xfrm>
              <a:off x="6358320" y="5573520"/>
              <a:ext cx="644760" cy="61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computr2"/>
            <p:cNvSpPr/>
            <p:nvPr/>
          </p:nvSpPr>
          <p:spPr>
            <a:xfrm>
              <a:off x="6488640" y="5698440"/>
              <a:ext cx="644760" cy="61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42040" y="1828800"/>
              <a:ext cx="1306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Рабочие станции филиала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1" idx="10"/>
              <a:endCxn id="59" idx="4"/>
            </p:cNvCxnSpPr>
            <p:nvPr/>
          </p:nvCxnSpPr>
          <p:spPr>
            <a:xfrm flipH="1">
              <a:off x="5573880" y="2015640"/>
              <a:ext cx="1051200" cy="20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3" idx="10"/>
              <a:endCxn id="59" idx="4"/>
            </p:cNvCxnSpPr>
            <p:nvPr/>
          </p:nvCxnSpPr>
          <p:spPr>
            <a:xfrm flipH="1">
              <a:off x="5573880" y="2140200"/>
              <a:ext cx="1181520" cy="85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3" idx="11"/>
              <a:endCxn id="59" idx="4"/>
            </p:cNvCxnSpPr>
            <p:nvPr/>
          </p:nvCxnSpPr>
          <p:spPr>
            <a:xfrm flipH="1" flipV="1">
              <a:off x="5573880" y="2224440"/>
              <a:ext cx="1181520" cy="8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4" idx="10"/>
              <a:endCxn id="58" idx="4"/>
            </p:cNvCxnSpPr>
            <p:nvPr/>
          </p:nvCxnSpPr>
          <p:spPr>
            <a:xfrm flipH="1">
              <a:off x="5638680" y="3688920"/>
              <a:ext cx="912600" cy="4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6" idx="10"/>
              <a:endCxn id="58" idx="4"/>
            </p:cNvCxnSpPr>
            <p:nvPr/>
          </p:nvCxnSpPr>
          <p:spPr>
            <a:xfrm flipH="1" flipV="1">
              <a:off x="5638680" y="3732120"/>
              <a:ext cx="1173960" cy="20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>
              <a:stCxn id="66" idx="11"/>
              <a:endCxn id="58" idx="4"/>
            </p:cNvCxnSpPr>
            <p:nvPr/>
          </p:nvCxnSpPr>
          <p:spPr>
            <a:xfrm flipH="1" flipV="1">
              <a:off x="5638680" y="3731760"/>
              <a:ext cx="1173960" cy="37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67" idx="10"/>
              <a:endCxn id="57" idx="4"/>
            </p:cNvCxnSpPr>
            <p:nvPr/>
          </p:nvCxnSpPr>
          <p:spPr>
            <a:xfrm flipH="1">
              <a:off x="5639040" y="5614920"/>
              <a:ext cx="71640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68" idx="10"/>
              <a:endCxn id="57" idx="4"/>
            </p:cNvCxnSpPr>
            <p:nvPr/>
          </p:nvCxnSpPr>
          <p:spPr>
            <a:xfrm flipH="1">
              <a:off x="5638680" y="5739480"/>
              <a:ext cx="847080" cy="29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9" idx="10"/>
              <a:endCxn id="57" idx="4"/>
            </p:cNvCxnSpPr>
            <p:nvPr/>
          </p:nvCxnSpPr>
          <p:spPr>
            <a:xfrm flipH="1">
              <a:off x="5638680" y="5864760"/>
              <a:ext cx="978120" cy="16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7151760" y="3522960"/>
              <a:ext cx="1306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Рабочие станции филиала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6520" y="5383800"/>
              <a:ext cx="1306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Рабочие станции филиала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21160" y="1936440"/>
              <a:ext cx="156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испетчерская система филиала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computr1"/>
            <p:cNvSpPr/>
            <p:nvPr/>
          </p:nvSpPr>
          <p:spPr>
            <a:xfrm>
              <a:off x="4757760" y="4325400"/>
              <a:ext cx="587880" cy="686160"/>
            </a:xfrm>
            <a:prstGeom prst="pi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87520" y="4138200"/>
              <a:ext cx="1567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испетчерская система филиала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computr1"/>
            <p:cNvSpPr/>
            <p:nvPr/>
          </p:nvSpPr>
          <p:spPr>
            <a:xfrm>
              <a:off x="3026520" y="5448960"/>
              <a:ext cx="587880" cy="686160"/>
            </a:xfrm>
            <a:prstGeom prst="pie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3880" y="5386320"/>
              <a:ext cx="1567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испетчерская система филиала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56" idx="14"/>
              <a:endCxn id="59" idx="2"/>
            </p:cNvCxnSpPr>
            <p:nvPr/>
          </p:nvCxnSpPr>
          <p:spPr>
            <a:xfrm>
              <a:off x="3689280" y="2221560"/>
              <a:ext cx="7099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5" idx="14"/>
              <a:endCxn id="57" idx="2"/>
            </p:cNvCxnSpPr>
            <p:nvPr/>
          </p:nvCxnSpPr>
          <p:spPr>
            <a:xfrm flipV="1">
              <a:off x="3614400" y="6031080"/>
              <a:ext cx="84960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59" idx="3"/>
              <a:endCxn id="55" idx="1"/>
            </p:cNvCxnSpPr>
            <p:nvPr/>
          </p:nvCxnSpPr>
          <p:spPr>
            <a:xfrm flipH="1">
              <a:off x="2405160" y="2505600"/>
              <a:ext cx="2580840" cy="57132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58" idx="2"/>
              <a:endCxn id="55" idx="4"/>
            </p:cNvCxnSpPr>
            <p:nvPr/>
          </p:nvCxnSpPr>
          <p:spPr>
            <a:xfrm flipH="1">
              <a:off x="3091320" y="3732120"/>
              <a:ext cx="13723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57" idx="1"/>
              <a:endCxn id="55" idx="3"/>
            </p:cNvCxnSpPr>
            <p:nvPr/>
          </p:nvCxnSpPr>
          <p:spPr>
            <a:xfrm flipH="1" flipV="1">
              <a:off x="2405520" y="4386960"/>
              <a:ext cx="2646000" cy="136332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83" idx="14"/>
              <a:endCxn id="58" idx="3"/>
            </p:cNvCxnSpPr>
            <p:nvPr/>
          </p:nvCxnSpPr>
          <p:spPr>
            <a:xfrm flipV="1">
              <a:off x="5051160" y="4012560"/>
              <a:ext cx="1080" cy="31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omputr2"/>
            <p:cNvSpPr/>
            <p:nvPr/>
          </p:nvSpPr>
          <p:spPr>
            <a:xfrm>
              <a:off x="609480" y="2514960"/>
              <a:ext cx="644760" cy="61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computr2"/>
            <p:cNvSpPr/>
            <p:nvPr/>
          </p:nvSpPr>
          <p:spPr>
            <a:xfrm>
              <a:off x="609480" y="4270680"/>
              <a:ext cx="644760" cy="61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480" y="3201840"/>
              <a:ext cx="91440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абочие станции центр. филиал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55" idx="2"/>
              <a:endCxn id="93" idx="10"/>
            </p:cNvCxnSpPr>
            <p:nvPr/>
          </p:nvCxnSpPr>
          <p:spPr>
            <a:xfrm flipH="1" flipV="1">
              <a:off x="1170720" y="2964240"/>
              <a:ext cx="549000" cy="767880"/>
            </a:xfrm>
            <a:prstGeom prst="straightConnector1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7" name=""/>
            <p:cNvCxnSpPr>
              <a:stCxn id="55" idx="2"/>
              <a:endCxn id="94" idx="10"/>
            </p:cNvCxnSpPr>
            <p:nvPr/>
          </p:nvCxnSpPr>
          <p:spPr>
            <a:xfrm flipH="1">
              <a:off x="1125720" y="3732120"/>
              <a:ext cx="593640" cy="705240"/>
            </a:xfrm>
            <a:prstGeom prst="straightConnector1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EE3-F9A5-47A3-802B-ABA290B099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Параллельная работа над комплектом документации с целью сокращения сроков и повышения качества подготовки технической докум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Station" descr=""/>
          <p:cNvPicPr/>
          <p:nvPr/>
        </p:nvPicPr>
        <p:blipFill>
          <a:blip r:embed="rId1"/>
          <a:stretch/>
        </p:blipFill>
        <p:spPr>
          <a:xfrm>
            <a:off x="2971800" y="2124000"/>
            <a:ext cx="6095880" cy="4429080"/>
          </a:xfrm>
          <a:prstGeom prst="rect">
            <a:avLst/>
          </a:prstGeom>
          <a:ln w="0">
            <a:noFill/>
          </a:ln>
        </p:spPr>
      </p:pic>
      <p:pic>
        <p:nvPicPr>
          <p:cNvPr id="100" name="Import" descr=""/>
          <p:cNvPicPr/>
          <p:nvPr/>
        </p:nvPicPr>
        <p:blipFill>
          <a:blip r:embed="rId2"/>
          <a:stretch/>
        </p:blipFill>
        <p:spPr>
          <a:xfrm>
            <a:off x="5410080" y="4648320"/>
            <a:ext cx="3657600" cy="2106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057400"/>
            <a:ext cx="304812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Интерфейсы к прикладным САП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yr"/>
              </a:rPr>
              <a:t>Autodesk Auto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yr"/>
              </a:rPr>
              <a:t>Autodesk Mechanical Desk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yr"/>
              </a:rPr>
              <a:t>Autodesk Inven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yr"/>
              </a:rPr>
              <a:t>MicroStation (</a:t>
            </a:r>
            <a:r>
              <a:rPr b="0" lang="en-US" sz="1800" spc="-1" strike="noStrike">
                <a:solidFill>
                  <a:srgbClr val="ffffff"/>
                </a:solidFill>
                <a:latin typeface="Times New Roman Cyr"/>
              </a:rPr>
              <a:t>TriForma, PlantSpace, GeoGraphics </a:t>
            </a:r>
            <a:r>
              <a:rPr b="0" lang="ru-RU" sz="1800" spc="-1" strike="noStrike">
                <a:solidFill>
                  <a:srgbClr val="ffffff"/>
                </a:solidFill>
                <a:latin typeface="Times New Roman Cyr"/>
              </a:rPr>
              <a:t>и др</a:t>
            </a: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Cyr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 Cyr"/>
              </a:rPr>
              <a:t>Solid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Компас-Граф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Автопро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ТехноП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E48-BE92-4518-A560-FF1CF82DEA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Интерфейс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PDM PLUS 4.0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к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Autodesk Mechanical Deskto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1590840"/>
          <a:ext cx="754380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90840"/>
                    <a:ext cx="754380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B43-C6AE-40F5-97B8-F2E60E8948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Интерфейс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PDM PLUS 4.0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к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Autodesk Inven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saving_inv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6858000" cy="510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8E5-C023-418E-BE8E-7F8476EE8F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 Cyr"/>
              </a:rPr>
              <a:t>Просмотр и аннотирование изображений  –  модуль </a:t>
            </a:r>
            <a:r>
              <a:rPr b="1" lang="en-US" sz="3200" spc="-1" strike="noStrike">
                <a:solidFill>
                  <a:srgbClr val="ffcc00"/>
                </a:solidFill>
                <a:latin typeface="Times New Roman Cyr"/>
              </a:rPr>
              <a:t>AutoVue SolidModel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2971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 Cyr"/>
              </a:rPr>
              <a:t>Просмотр чертежей инженерных форматов, 3</a:t>
            </a:r>
            <a:r>
              <a:rPr b="0" lang="en-US" sz="1900" spc="-1" strike="noStrike">
                <a:solidFill>
                  <a:srgbClr val="ffffff"/>
                </a:solidFill>
                <a:latin typeface="Times New Roman Cyr"/>
              </a:rPr>
              <a:t>D </a:t>
            </a:r>
            <a:r>
              <a:rPr b="0" lang="ru-RU" sz="1900" spc="-1" strike="noStrike">
                <a:solidFill>
                  <a:srgbClr val="ffffff"/>
                </a:solidFill>
                <a:latin typeface="Times New Roman Cyr"/>
              </a:rPr>
              <a:t>моделей и сборок </a:t>
            </a:r>
            <a:r>
              <a:rPr b="0" lang="en-US" sz="1900" spc="-1" strike="noStrike">
                <a:solidFill>
                  <a:srgbClr val="ffffff"/>
                </a:solidFill>
                <a:latin typeface="Times New Roman Cyr"/>
              </a:rPr>
              <a:t>(AutoCAD, MDT, Inventor, MicroStation, SolidWorks, SolidEdge, Pro/Engineer, CATIA, Unigraphics, STEP</a:t>
            </a:r>
            <a:r>
              <a:rPr b="0" lang="ru-RU" sz="1900" spc="-1" strike="noStrike">
                <a:solidFill>
                  <a:srgbClr val="ffffff"/>
                </a:solidFill>
                <a:latin typeface="Times New Roman Cyr"/>
              </a:rPr>
              <a:t> и др.</a:t>
            </a:r>
            <a:r>
              <a:rPr b="0" lang="en-US" sz="1900" spc="-1" strike="noStrike">
                <a:solidFill>
                  <a:srgbClr val="ffffff"/>
                </a:solidFill>
                <a:latin typeface="Times New Roman Cyr"/>
              </a:rPr>
              <a:t>)</a:t>
            </a:r>
            <a:r>
              <a:rPr b="0" lang="ru-RU" sz="1900" spc="-1" strike="noStrike">
                <a:solidFill>
                  <a:srgbClr val="ffffff"/>
                </a:solidFill>
                <a:latin typeface="Times New Roman Cyr"/>
              </a:rPr>
              <a:t>, приборостроительных САПР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 Cyr"/>
              </a:rPr>
              <a:t>Digital Mocku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 Cyr"/>
              </a:rPr>
              <a:t>Сравнение чертеже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 Cyr"/>
              </a:rPr>
              <a:t>Конвертация данных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 Cyr"/>
              </a:rPr>
              <a:t>Пакетная печать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 Cyr"/>
              </a:rPr>
              <a:t>Возможности аннотирован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utoVue_0700_cmyk_PC" descr=""/>
          <p:cNvPicPr/>
          <p:nvPr/>
        </p:nvPicPr>
        <p:blipFill>
          <a:blip r:embed="rId1"/>
          <a:stretch/>
        </p:blipFill>
        <p:spPr>
          <a:xfrm>
            <a:off x="7696080" y="1103400"/>
            <a:ext cx="1447920" cy="801720"/>
          </a:xfrm>
          <a:prstGeom prst="rect">
            <a:avLst/>
          </a:prstGeom>
          <a:ln w="0">
            <a:noFill/>
          </a:ln>
        </p:spPr>
      </p:pic>
      <p:pic>
        <p:nvPicPr>
          <p:cNvPr id="110" name="3D_модель_SW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096-5B41-4B31-9AC6-CFFFFF5961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Опциональные модули: Интерфейс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76680" y="167616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Повышение конкурентоспособности нашего программного обеспечения за счет большей гибкости в обмене данн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Необходимость использования единого универсально формата обмена с другими системам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 Cyr"/>
              </a:rPr>
              <a:t>PDM/P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 Cyr"/>
              </a:rPr>
              <a:t>Потребности заказчиков, работающих с зарубежными партнер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824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untitled" descr=""/>
          <p:cNvPicPr/>
          <p:nvPr/>
        </p:nvPicPr>
        <p:blipFill>
          <a:blip r:embed="rId1"/>
          <a:stretch/>
        </p:blipFill>
        <p:spPr>
          <a:xfrm>
            <a:off x="3876840" y="1295280"/>
            <a:ext cx="5267160" cy="3248280"/>
          </a:xfrm>
          <a:prstGeom prst="rect">
            <a:avLst/>
          </a:prstGeom>
          <a:ln w="0">
            <a:noFill/>
          </a:ln>
        </p:spPr>
      </p:pic>
      <p:pic>
        <p:nvPicPr>
          <p:cNvPr id="115" name="Формирование%20таблицы%20отображений-%20выбор%20концептуальной%20схемы%20данных%20(протокола)%20STEP" descr=""/>
          <p:cNvPicPr/>
          <p:nvPr/>
        </p:nvPicPr>
        <p:blipFill>
          <a:blip r:embed="rId2"/>
          <a:stretch/>
        </p:blipFill>
        <p:spPr>
          <a:xfrm>
            <a:off x="4705200" y="2057400"/>
            <a:ext cx="3600720" cy="3886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781680" y="4038480"/>
            <a:ext cx="23338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2BF-F536-4147-9B81-0F802D1992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Опциональные модули: ЭЦ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ign0003" descr=""/>
          <p:cNvPicPr/>
          <p:nvPr/>
        </p:nvPicPr>
        <p:blipFill>
          <a:blip r:embed="rId1"/>
          <a:stretch/>
        </p:blipFill>
        <p:spPr>
          <a:xfrm>
            <a:off x="0" y="1523880"/>
            <a:ext cx="7543800" cy="2998800"/>
          </a:xfrm>
          <a:prstGeom prst="rect">
            <a:avLst/>
          </a:prstGeom>
          <a:ln w="0">
            <a:noFill/>
          </a:ln>
        </p:spPr>
      </p:pic>
      <p:pic>
        <p:nvPicPr>
          <p:cNvPr id="119" name="Sign0005" descr=""/>
          <p:cNvPicPr/>
          <p:nvPr/>
        </p:nvPicPr>
        <p:blipFill>
          <a:blip r:embed="rId2"/>
          <a:stretch/>
        </p:blipFill>
        <p:spPr>
          <a:xfrm>
            <a:off x="2590920" y="2119320"/>
            <a:ext cx="6591240" cy="47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852-30AE-434B-9F9E-39B46A7EDC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9:54:01Z</dcterms:created>
  <dc:creator/>
  <dc:description/>
  <dc:language>en-US</dc:language>
  <cp:lastModifiedBy>Nick</cp:lastModifiedBy>
  <dcterms:modified xsi:type="dcterms:W3CDTF">2004-10-06T13:20:12Z</dcterms:modified>
  <cp:revision>216</cp:revision>
  <dc:subject/>
  <dc:title>Lotsia PLM . Обзор дополнительных модулей</dc:title>
</cp:coreProperties>
</file>