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C28-4F1F-4B00-BC76-598C24B5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372-378B-4465-B954-AF65849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F78-D740-4DEF-AF11-8FF4E576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154-F6A9-47C7-A985-1CF34737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31C-FA79-4229-AD89-1E05E49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517-8A3A-48F1-A0EC-F5CDE66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F26-E0F8-455C-8BAC-21B776D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07F-C480-4E57-A71B-11B6E30D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594-B971-4358-B421-8CA7F7FA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757-E2CD-4378-97DC-6FC117F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784-3CBA-44C1-AAB4-E45DE76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363-7838-45DD-9EC9-C5BFDA7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0D6-2A62-4A59-9AC6-5A0818BD62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Lotsia ERP</a:t>
            </a: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Новые возможности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системы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ланы развития</a:t>
            </a:r>
            <a:r>
              <a:rPr b="1" lang="ru-RU" sz="48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594360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онференция по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LM.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24 сентября 20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Общесистемные из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Lotsia ERP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ереведена под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PowerBuilder v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, что позволяет ей работать на одних и тех же системных библиотеках с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Lotsia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PDM Plus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. Это уменьшает требования к ресурсам и увеличивает быстр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Добавлена возможность работы с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Adaptive Server Anywhere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это позволяет резко снизить сетевой трафик, что особенно важно при удаленн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В системе появился функционал для работы с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VBScript, JScript 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и другими аналогичными инструмен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Существенно переработан модуль проверки целостности Б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В системе появились справочники, зависящие от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F92-EEFB-4F44-A665-F15DDA920B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Общесистемные из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Расширена функциональность генератора от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Изменен алгоритм формирования рабочего ме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о наиболее важным справочникам система хранит историю изме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Существенно увеличен функционал транспортной утили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 возможно настроить автоматическую передач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 введены аргументы для настройки пере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есть возможность передавать информацию об удаленных в других филиалах свойств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Увеличено количество передаваемых табл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E9D-38D5-4C71-B87B-A85CC1FB1A0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ПЕРСПЕКТИВЫ РАЗВИТИЯ  СИСТЕМЫ</a:t>
            </a:r>
            <a:br>
              <a:rPr sz="5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E38-0F8D-49F7-8BB6-B8A78EB6D8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Увеличение общей функциональности систе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MES-</a:t>
            </a: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система, планировщик, передача атрибутов, зарплата, генератор отчетов, новы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клиент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Отслеживание изменений законодательства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Расширение возможностей пользовательской настройки и взаимодействия с другими системам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- развит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API</a:t>
            </a: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, скрипты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Расширение возможностей администрировани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- передача пользователей и прав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Сервисные доработки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 Cyr"/>
              </a:rPr>
              <a:t>Работа по пожеланиям клиентов, партнеров и договорные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38D-282D-4CDB-B243-3D537C5AFD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http://www.lotsia.com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241-1E60-4AFD-A5B7-5B552DC8FC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2971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 – 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составная часть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 системы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P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12920" y="380880"/>
            <a:ext cx="6031080" cy="5867640"/>
            <a:chOff x="3112920" y="380880"/>
            <a:chExt cx="6031080" cy="5867640"/>
          </a:xfrm>
        </p:grpSpPr>
        <p:graphicFrame>
          <p:nvGraphicFramePr>
            <p:cNvPr id="47" name=""/>
            <p:cNvGraphicFramePr/>
            <p:nvPr/>
          </p:nvGraphicFramePr>
          <p:xfrm>
            <a:off x="3112920" y="380880"/>
            <a:ext cx="6031080" cy="586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12920" y="380880"/>
                      <a:ext cx="6031080" cy="58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 txBox="1"/>
            <p:nvPr/>
          </p:nvSpPr>
          <p:spPr>
            <a:xfrm>
              <a:off x="3368520" y="634680"/>
              <a:ext cx="5555160" cy="533340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ДОКУМЕНТООБОРОТ ОФИСНЫЙ И ТЕХНИЧЕСКИЙ </a:t>
              </a:r>
              <a:endPara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 rot="20326800">
              <a:off x="4535280" y="1074240"/>
              <a:ext cx="1732680" cy="4899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АРХИВ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4093200" y="1293840"/>
              <a:ext cx="4107960" cy="404280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"/>
                </a:rPr>
                <a:t>ТРАНСПОРТНЫЕ   УТИЛИТЫ (ШЛЮЗЫ)                                                   </a:t>
              </a:r>
              <a:endPara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  <a:ea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4907160" y="4604760"/>
              <a:ext cx="2598480" cy="730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Times New Roman"/>
                </a:rPr>
                <a:t>L O T S I A   E R P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25840" y="2450160"/>
              <a:ext cx="1101240" cy="5112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кла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44920" y="2961360"/>
              <a:ext cx="1101240" cy="5108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бы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27440" y="2827800"/>
              <a:ext cx="1468080" cy="5108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Снабж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3840" y="3509280"/>
              <a:ext cx="1688400" cy="51120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Бухгалт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33040" y="3655440"/>
              <a:ext cx="1774080" cy="5108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роизводств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5320" y="4276080"/>
              <a:ext cx="1602720" cy="5108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Аналити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42200" y="1940400"/>
              <a:ext cx="33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кладные систе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F32-21FC-443E-9513-211A90D953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Позиционирование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рупные и средние компан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Территориально-распределенные предприятия (в т.ч. проектные и сбытовые организации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Оптово-розничные струк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Торгово-производственные фир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Предприятия, которым требуется комплексное решение задач автомат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Холдинговые струк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омпании со сложными схемами учета и аналити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Предприятия, которым нужно рабочее решение за разумные день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7E9-FC10-4565-AE03-0362051134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НОВЫЕ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ВОЗМОЖНОСТИ СИСТЕМЫ</a:t>
            </a:r>
            <a:br>
              <a:rPr sz="5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D02-E58A-43A7-9EE4-B3AA6834A1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Развитие подсистем «Бухгалтерия» и «Кадр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Автоматизированный расчет суммовых и курсовых разн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суммовые%20разницы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B48-F53C-481C-B983-35D1BB50D1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Возможность настройки типовых хозяйственных операций для автоматического создания пакетов прово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nap0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snap02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68" name="snap0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pic>
        <p:nvPicPr>
          <p:cNvPr id="69" name="snap0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pic>
        <p:nvPicPr>
          <p:cNvPr id="70" name="snap06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AFA-BE94-43D3-A4B5-62E2734463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сширен функционал работы со штатным распис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зработан блок договоров, связанный 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бавлено более 30 сервисных функций повышающих удобство работы с бухгалтерией и кад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бавлена возможность создания приказов пользовательских т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Введен учет дополнительных затрат на поставку от другого постав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Наличие пользовательских справочников, в том числе, древовидных. Их связь 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Lotsia P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761-13B0-4C69-B0ED-52CD02BAE6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Нововведения в торгово-производственном мод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Разработан новый механизм комплектации, который позволяет производить замены в соотносимых единиц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280" y="1960560"/>
          <a:ext cx="86868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60560"/>
                    <a:ext cx="86868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676-2889-4E73-8112-129E5C67EE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Нововведения в торгово-производственном мод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В дополнение к уже существовавшим алгоритмам заказа разработан новый модуль заказа товара, ориентированный на размерные ряды и поддерживающий технологию распределенного зак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Расширен список непосредственно интегрируемых с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Lotsia PDM 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справ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Доработаны алгоритмы печати штриховых кодов, це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Расширен список оборудования, работающего с системой (вес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DIGI SM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, фискальный регистратор «Торнадо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Добавлено около 20 новых предопределенных от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Увеличен функционал системы прав кассовой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Создан механизм оценки эффективности продавц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1E5-6E0E-44F1-9A3B-65B9E3A2AC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/>
  <dc:description/>
  <dc:language>en-US</dc:language>
  <cp:lastModifiedBy>Nick</cp:lastModifiedBy>
  <dcterms:modified xsi:type="dcterms:W3CDTF">2004-09-23T10:33:44Z</dcterms:modified>
  <cp:revision>289</cp:revision>
  <dc:subject/>
  <dc:title>Lotsia ERP  Новые возможности  системы Планы развития </dc:title>
</cp:coreProperties>
</file>