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2FC0-84FA-4274-8A9A-08B5E9F1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3A39-FBE3-4A6A-B53F-67B6DD97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EE44-843E-43C4-A665-4B09717C3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4E4A-73D7-428B-ACAD-3320CA24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0BC4F-9F26-4FC5-80D2-9FCFAB5BE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34DF0-A1FF-46A3-8DC8-427AF2BE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33B47-4A18-4779-946D-9B2F5812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B637-B196-44E4-86E5-87672BE87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5027-FD1B-4822-A0A3-E4F3843F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25D1A-0A5E-49C0-B6D6-6A46BAE8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3256-E042-47B7-9090-CEBFCD027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113C-0F7E-4416-A494-BE905D9E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7229-4868-48BD-8EB8-C15E40DA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8B39-B709-4173-8362-98493B2B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D140-EB59-4D66-AC8C-258B641D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402CE-EF1D-4843-A3FF-5207E020B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51DE-1C5F-4A2A-AC8D-73DF2F6D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9AE-772D-46C2-B2F8-C1CF0818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615A-9332-4A34-8A8A-7DFC174A3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13A-8817-49EE-BEBD-AE2A050C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F246-F50B-47DD-B697-C227E412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BEE1-DA3E-4AC2-A3D4-8310160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D587-90A8-4E55-92F7-DFE5A81B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D20E-2285-4984-BF6D-58943A10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9B531-FCF1-43A0-A9C7-A344314C69E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D6EF-E675-42BA-AAD6-97A1D1B302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80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ОАО «ЭЛАРА», 2004 г.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828800" y="38052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истема Электронного Архива Технической Документа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на базе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Lotsia PDM Pl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320" y="151920"/>
            <a:ext cx="5410080" cy="123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одуль подготовки производств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1600200"/>
            <a:ext cx="289584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одуль расшир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«Технолог по ОПП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876920" y="1600200"/>
            <a:ext cx="35812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одуль расшир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«Технолог по расцеховке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039920" y="17208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09520" y="2819520"/>
            <a:ext cx="872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одготовки производства позволяет вводить в состав изделия данные и генерировать как отчеты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8920" y="3581280"/>
            <a:ext cx="905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рафики постановки изделия на производство (табличный вид и вид диаграммы Ганта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графики разработки ТП, СПК, оснастки (табличный вид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технологические маршруты изготовления блоков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еталей (расцеховки) (документ «Ведомость технологических маршрутов»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анные по факту исполн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-7632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одуль контроля исполнени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"/>
          <p:cNvSpPr/>
          <p:nvPr/>
        </p:nvSpPr>
        <p:spPr>
          <a:xfrm>
            <a:off x="1143000" y="1600200"/>
            <a:ext cx="31240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одуль расшир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«Руководитель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2162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едназначен для работы руководителей технических служб с системой ЭА ТД. Он предоставляет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36440" y="4543560"/>
            <a:ext cx="8778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доступ на чтение ко всем объектам архива и документ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систему отчетов, позволяющую контролировать исполнение бизнес-процессов и ход работ по проекту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5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66760" y="3048120"/>
            <a:ext cx="8610480" cy="33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Times New Roman"/>
              </a:rPr>
              <a:t>Модуль ведения данных по составам изделий и передача их в ИСУ БААН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5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Интеграция ЭА ТД с ИСУ БААН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952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спользовать единую базу данных покупных комплектующи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ервоначальное наполнение ЭА ТД  провести импортируя составы изделий из ИСУ БА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еренести точку ввода конструкторских данных в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PDM-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исте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Осуществлять передачу данных по конструкторским изменениям из ЭА ТД в ИСУ БААН в реальном време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38600" y="110952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Цель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5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Интеграция ЭА ТД с ИСУ БААН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9007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Совместное использование БД по комплектующим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1600200"/>
            <a:ext cx="2819520" cy="4191120"/>
          </a:xfrm>
          <a:prstGeom prst="rect">
            <a:avLst/>
          </a:prstGeom>
          <a:solidFill>
            <a:srgbClr val="6ebfc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У БА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TM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1523880"/>
            <a:ext cx="3276720" cy="4343400"/>
          </a:xfrm>
          <a:prstGeom prst="rect">
            <a:avLst/>
          </a:prstGeom>
          <a:solidFill>
            <a:srgbClr val="6ebfc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А Т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00400" y="3505320"/>
            <a:ext cx="2514600" cy="6858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4381200" y="270504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1981080"/>
            <a:ext cx="173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черед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(иниц.ОС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16200000">
            <a:off x="2857320" y="4304880"/>
            <a:ext cx="1219320" cy="68580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733920" y="441972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Внеочередно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обновл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(инициирует пользователь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124080" y="3505320"/>
            <a:ext cx="2667240" cy="68580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533520" y="579132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451160" y="6324480"/>
            <a:ext cx="282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ebfca"/>
                </a:solidFill>
                <a:latin typeface="Times New Roman"/>
              </a:rPr>
              <a:t>Кодирование и вво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5943600" y="2819520"/>
          <a:ext cx="304812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2819520"/>
                    <a:ext cx="304812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"/>
          <p:cNvGraphicFramePr/>
          <p:nvPr/>
        </p:nvGraphicFramePr>
        <p:xfrm>
          <a:off x="380880" y="2438280"/>
          <a:ext cx="2286000" cy="327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438280"/>
                    <a:ext cx="2286000" cy="327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5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Интеграция ЭА ТД с ИСУ БААН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990720"/>
            <a:ext cx="9007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Начальное наполнение  ЭА ТД составами издели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6320" y="1981080"/>
            <a:ext cx="2819160" cy="4191120"/>
          </a:xfrm>
          <a:prstGeom prst="rect">
            <a:avLst/>
          </a:prstGeom>
          <a:solidFill>
            <a:srgbClr val="6ebfc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У БА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M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172200" y="1981080"/>
            <a:ext cx="2819520" cy="4191120"/>
          </a:xfrm>
          <a:prstGeom prst="rect">
            <a:avLst/>
          </a:prstGeom>
          <a:solidFill>
            <a:srgbClr val="6ebfc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А Т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962520"/>
            <a:ext cx="609480" cy="685800"/>
          </a:xfrm>
          <a:custGeom>
            <a:avLst/>
            <a:gdLst>
              <a:gd name="textAreaLeft" fmla="*/ 95040 w 609480"/>
              <a:gd name="textAreaRight" fmla="*/ 533520 w 609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819520" y="1523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ebfca"/>
                </a:solidFill>
                <a:latin typeface="Times New Roman"/>
              </a:rPr>
              <a:t>Импорт -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инициирует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адм. ЭА Т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009960" y="4495680"/>
            <a:ext cx="419040" cy="1905120"/>
          </a:xfrm>
          <a:prstGeom prst="upArrow">
            <a:avLst>
              <a:gd name="adj1" fmla="val 50000"/>
              <a:gd name="adj2" fmla="val 11366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640080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ebfca"/>
                </a:solidFill>
                <a:latin typeface="Times New Roman"/>
              </a:rPr>
              <a:t>Экспорт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ebfca"/>
                </a:solidFill>
                <a:latin typeface="Times New Roman"/>
              </a:rPr>
              <a:t>-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</a:rPr>
              <a:t>инициирует адм. ИСУ БА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895480" y="3962520"/>
            <a:ext cx="609840" cy="685800"/>
          </a:xfrm>
          <a:custGeom>
            <a:avLst/>
            <a:gdLst>
              <a:gd name="textAreaLeft" fmla="*/ 95040 w 609840"/>
              <a:gd name="textAreaRight" fmla="*/ 533880 w 60984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0800000">
            <a:off x="5524560" y="2057040"/>
            <a:ext cx="419040" cy="1981080"/>
          </a:xfrm>
          <a:prstGeom prst="upArrow">
            <a:avLst>
              <a:gd name="adj1" fmla="val 50000"/>
              <a:gd name="adj2" fmla="val 118192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2133720"/>
            <a:ext cx="1904760" cy="3962160"/>
          </a:xfrm>
          <a:prstGeom prst="rect">
            <a:avLst/>
          </a:pr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бменны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файл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6248520" y="2743200"/>
          <a:ext cx="26668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2743200"/>
                    <a:ext cx="2666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152280" y="3022560"/>
          <a:ext cx="2667240" cy="284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22560"/>
                    <a:ext cx="266724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581280" y="2895480"/>
          <a:ext cx="1752840" cy="2448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2895480"/>
                    <a:ext cx="1752840" cy="24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809880" y="3733920"/>
          <a:ext cx="1524240" cy="1904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9880" y="3733920"/>
                    <a:ext cx="152424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5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Интеграция ЭА ТД с ИСУ БААН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990720"/>
            <a:ext cx="90075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Модуль ввода данных по КСИ и передача в ИСУ БААН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76320" y="1600200"/>
            <a:ext cx="4876920" cy="4572000"/>
          </a:xfrm>
          <a:prstGeom prst="rect">
            <a:avLst/>
          </a:prstGeom>
          <a:solidFill>
            <a:srgbClr val="6ebfc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ЭА Т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172200" y="1447920"/>
            <a:ext cx="2895480" cy="4724280"/>
          </a:xfrm>
          <a:prstGeom prst="rect">
            <a:avLst/>
          </a:prstGeom>
          <a:solidFill>
            <a:srgbClr val="6ebfca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У БА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EDM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(BOM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IT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657600" y="4724280"/>
            <a:ext cx="1905120" cy="685800"/>
          </a:xfrm>
          <a:custGeom>
            <a:avLst/>
            <a:gdLst>
              <a:gd name="textAreaLeft" fmla="*/ 297720 w 1905120"/>
              <a:gd name="textAreaRight" fmla="*/ 1667160 w 190512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618804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ebfca"/>
                </a:solidFill>
                <a:latin typeface="Times New Roman"/>
              </a:rPr>
              <a:t>Ввод КС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ebfca"/>
                </a:solidFill>
                <a:latin typeface="Times New Roman"/>
              </a:rPr>
              <a:t>и К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6172200"/>
            <a:ext cx="32004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Инициироват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ередачу(разрешение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448640" y="1752480"/>
            <a:ext cx="32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Получение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0000"/>
                </a:solidFill>
                <a:latin typeface="Times New Roman"/>
              </a:rPr>
              <a:t>уведомл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10800000">
            <a:off x="7238880" y="6019920"/>
            <a:ext cx="609840" cy="838080"/>
          </a:xfrm>
          <a:custGeom>
            <a:avLst/>
            <a:gdLst>
              <a:gd name="textAreaLeft" fmla="*/ 0 w 609840"/>
              <a:gd name="textAreaRight" fmla="*/ 610200 w 6098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6320" y="2538360"/>
          <a:ext cx="3200400" cy="35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2538360"/>
                    <a:ext cx="320040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"/>
          <p:cNvSpPr/>
          <p:nvPr/>
        </p:nvSpPr>
        <p:spPr>
          <a:xfrm>
            <a:off x="2666880" y="2133720"/>
            <a:ext cx="1447920" cy="76176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761760"/>
              <a:gd name="textAreaBottom" fmla="*/ 762120 h 7617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600200" y="2895480"/>
            <a:ext cx="2971800" cy="106704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ршру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Информир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ьзователей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320" y="4419720"/>
            <a:ext cx="3504960" cy="1066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ул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шир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Конструктор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5524560"/>
            <a:ext cx="723960" cy="7239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819520" y="5486400"/>
            <a:ext cx="457200" cy="762120"/>
          </a:xfrm>
          <a:prstGeom prst="upArrow">
            <a:avLst>
              <a:gd name="adj1" fmla="val 50000"/>
              <a:gd name="adj2" fmla="val 41673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19520" y="3962520"/>
            <a:ext cx="457200" cy="4572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62120" y="2895480"/>
          <a:ext cx="1352520" cy="24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895480"/>
                    <a:ext cx="1352520" cy="24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6248520" y="2362320"/>
          <a:ext cx="274320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48520" y="2362320"/>
                    <a:ext cx="27432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6629400" y="2562120"/>
          <a:ext cx="2362320" cy="1552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2562120"/>
                    <a:ext cx="236232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6324480" y="4572000"/>
          <a:ext cx="2560680" cy="1523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24480" y="4572000"/>
                    <a:ext cx="256068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4" name=""/>
          <p:cNvGraphicFramePr/>
          <p:nvPr/>
        </p:nvGraphicFramePr>
        <p:xfrm>
          <a:off x="5229360" y="6248520"/>
          <a:ext cx="20095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229360" y="6248520"/>
                    <a:ext cx="20095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 rot="5400000">
            <a:off x="6286320" y="4076640"/>
            <a:ext cx="609480" cy="685800"/>
          </a:xfrm>
          <a:custGeom>
            <a:avLst/>
            <a:gdLst>
              <a:gd name="textAreaLeft" fmla="*/ 95040 w 609480"/>
              <a:gd name="textAreaRight" fmla="*/ 533520 w 609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ebfc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16200000">
            <a:off x="3855600" y="3678120"/>
            <a:ext cx="3854520" cy="459720"/>
          </a:xfrm>
          <a:prstGeom prst="rect">
            <a:avLst/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b256b"/>
                </a:solidFill>
                <a:latin typeface="Arial"/>
              </a:rPr>
              <a:t>Модуль «</a:t>
            </a:r>
            <a:r>
              <a:rPr b="0" lang="en-US" sz="2400" spc="-1" strike="noStrike">
                <a:solidFill>
                  <a:srgbClr val="3b256b"/>
                </a:solidFill>
                <a:latin typeface="Arial"/>
              </a:rPr>
              <a:t>Edm_import</a:t>
            </a:r>
            <a:r>
              <a:rPr b="0" lang="ru-RU" sz="2400" spc="-1" strike="noStrike">
                <a:solidFill>
                  <a:srgbClr val="3b256b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256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-144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Интеграция ЭА ТД с ИСУ БААН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"/>
          <p:cNvSpPr/>
          <p:nvPr/>
        </p:nvSpPr>
        <p:spPr>
          <a:xfrm>
            <a:off x="2160" y="609480"/>
            <a:ext cx="237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c00"/>
                </a:solidFill>
                <a:latin typeface="Times New Roman"/>
              </a:rPr>
              <a:t>Результаты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666880" y="685800"/>
            <a:ext cx="6400800" cy="2289240"/>
          </a:xfrm>
          <a:prstGeom prst="rect">
            <a:avLst/>
          </a:prstGeom>
          <a:solidFill>
            <a:srgbClr val="ff0000">
              <a:alpha val="50000"/>
            </a:srgbClr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Структура электронного архив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редусматривает хран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редакций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состава конструкторской един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данных по исполнен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данных по допустимым замен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данных по подборным компонента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985680" y="1143000"/>
            <a:ext cx="7929720" cy="2228400"/>
          </a:xfrm>
          <a:prstGeom prst="rect">
            <a:avLst/>
          </a:prstGeom>
          <a:solidFill>
            <a:srgbClr val="ff505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Модуль импорта справочных таблиц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озволяет провод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начальное наполнение справочников ЭА Т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регулярное обновление данных в справочника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обновление данных в справочниках по желанию пользовател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1360" y="1600200"/>
            <a:ext cx="8321760" cy="4057920"/>
          </a:xfrm>
          <a:prstGeom prst="rect">
            <a:avLst/>
          </a:prstGeom>
          <a:solidFill>
            <a:srgbClr val="3b256b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Модуль импорта состава издел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автоматически подбирает в таблицах ИСУ БААН и вводит в ЭА ТД состав актуальной редакции  выбранного издел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не накладывает ограничений на глубину вложенности блоков импортируемого издел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создает в ЭА ТД объекты состава изделия с сохранением связей, отображающих полную применяемость конструкторских единиц и комплектующих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может быть использован как универсальная процедура импорта состава изделия из любой внешней системы  (при условии использования единой системы кодирования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6440" y="2057400"/>
            <a:ext cx="8398080" cy="436284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Arial"/>
              </a:rPr>
              <a:t>Модуль сопровождения конструкторских данны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озволяе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вводить и просматривать данные по редакциям конструкторских единиц (на текущую дату или на произвольную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сопоставлять редакции состава изделия (блока )комплект К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олучать информацию о применяемости детали, блок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олучать информацию о возможности применения материалов и комплектующих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осуществляет передачу данных в 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ERP-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систему (до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EDM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BOM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) в реальном времени, рассылая уведомления пользовател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роводить прямое редактирование ранее переданных данных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предоставляет более удобный интерфейс ввода данных (по сравнению с формами модуля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EDM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BAAN IV</a:t>
            </a:r>
            <a:r>
              <a:rPr b="0" i="1" lang="ru-RU" sz="20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-1440"/>
            <a:ext cx="480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-360" y="914040"/>
            <a:ext cx="8915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илотный проект. Рассылка утвержденной документации в подразде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стройка модуля электронного архива К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стройка модуля согласования 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стройка модуля хранения составов изделий и передачи их в ИСУ БАА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стройка модуля хранения и согласования Т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стройка модуля подготовки производст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стройка модуля контроля исполнения и управления процессам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914400" y="495252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нтеграция 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Lotsia PDM Plus c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АП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гласование КД в ЭА Т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Предпроектное исследова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остаточное количество компьютеризированных рабочих мес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Достаточно развитая ЛВ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Наличие инженерной копировальной техники (комплексы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TDS-600, OCE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9700,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OCE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316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инженерных и технологических САПР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(Pro Engeneer, Cadence, P-Cad,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Гепард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Использование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ERP-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истемы для задач управления производством предприятия (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BAAN IV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200"/>
            <a:ext cx="80773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Определение целей применения </a:t>
            </a:r>
            <a:r>
              <a:rPr b="1" i="1" lang="en-US" sz="4000" spc="-1" strike="noStrike">
                <a:solidFill>
                  <a:srgbClr val="ffcc00"/>
                </a:solidFill>
                <a:latin typeface="Times New Roman"/>
              </a:rPr>
              <a:t>PDM-</a:t>
            </a:r>
            <a:r>
              <a:rPr b="1" i="1" lang="ru-RU" sz="4000" spc="-1" strike="noStrike">
                <a:solidFill>
                  <a:srgbClr val="ffcc00"/>
                </a:solidFill>
                <a:latin typeface="Times New Roman"/>
              </a:rPr>
              <a:t>системы на предприятии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оздать электронный архив технической документ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вернуть электронный документооборот    КД, ТД и ОР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вернуть систему управления данными об издел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азвернуть систему контроля выполнения административно-управленческих решен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На базе системы электронного архива ТД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реализовать информационное взаимодействие между подразделениями предприятия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с разграничением доступа и обеспечением требуемого уровня информационной безопас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320" y="-1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Выбор стратегии внедрения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Создать временную целевую группу, включающую администраторов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Lotsia PDM PLUS,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 программистов,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конструкторов, технологов, специалистов отделов САПР и АСУП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Разработать ТЗ и план мероприятий на создание и внедрение системы электронного архива технической документации (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ЭА ТД</a:t>
            </a: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imes New Roman"/>
              </a:rPr>
              <a:t>Провести настройку системы и поэтапное внедрение модулей в эксплуата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7776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Этапы внедрения ЭА Т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"/>
          <p:cNvSpPr/>
          <p:nvPr/>
        </p:nvSpPr>
        <p:spPr>
          <a:xfrm>
            <a:off x="3048120" y="1828800"/>
            <a:ext cx="3276360" cy="236232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Моду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электронного архи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47920" y="838080"/>
            <a:ext cx="6553080" cy="68580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Модуль контроля исполнен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81680" y="1905120"/>
            <a:ext cx="2210040" cy="167616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Моду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регистраци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и рассыл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утв. ИИ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0800000">
            <a:off x="4343400" y="1294920"/>
            <a:ext cx="914400" cy="685800"/>
          </a:xfrm>
          <a:prstGeom prst="downArrowCallout">
            <a:avLst>
              <a:gd name="adj1" fmla="val 33336"/>
              <a:gd name="adj2" fmla="val 33333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0800000">
            <a:off x="5791320" y="1294920"/>
            <a:ext cx="914400" cy="685800"/>
          </a:xfrm>
          <a:prstGeom prst="downArrowCallout">
            <a:avLst>
              <a:gd name="adj1" fmla="val 33336"/>
              <a:gd name="adj2" fmla="val 33333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2209680"/>
            <a:ext cx="685800" cy="914400"/>
          </a:xfrm>
          <a:prstGeom prst="rightArrowCallout">
            <a:avLst>
              <a:gd name="adj1" fmla="val 33336"/>
              <a:gd name="adj2" fmla="val 33333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nextslide"/>
          </p:cNvPr>
          <p:cNvSpPr/>
          <p:nvPr/>
        </p:nvSpPr>
        <p:spPr>
          <a:xfrm>
            <a:off x="2819520" y="4038480"/>
            <a:ext cx="3733560" cy="114300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Моду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сопровождения КС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743200" y="5562720"/>
            <a:ext cx="1905120" cy="9144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У БАА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952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14800" y="3505320"/>
            <a:ext cx="914400" cy="609480"/>
          </a:xfrm>
          <a:prstGeom prst="upArrowCallout">
            <a:avLst>
              <a:gd name="adj1" fmla="val 37511"/>
              <a:gd name="adj2" fmla="val 37507"/>
              <a:gd name="adj3" fmla="val 16667"/>
              <a:gd name="adj4" fmla="val 6666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05720" y="3962520"/>
            <a:ext cx="2361960" cy="83808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Моду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огласования ОР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6286320" y="3543120"/>
            <a:ext cx="838440" cy="914400"/>
          </a:xfrm>
          <a:custGeom>
            <a:avLst/>
            <a:gdLst>
              <a:gd name="textAreaLeft" fmla="*/ 0 w 838440"/>
              <a:gd name="textAreaRight" fmla="*/ 838800 w 8384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4038480"/>
            <a:ext cx="2438280" cy="114300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Модуль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опровожд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и согласования Т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880" y="5562720"/>
            <a:ext cx="2057400" cy="9144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ПР ТП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Гепар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5029200"/>
            <a:ext cx="914400" cy="609480"/>
          </a:xfrm>
          <a:prstGeom prst="upArrowCallout">
            <a:avLst>
              <a:gd name="adj1" fmla="val 37511"/>
              <a:gd name="adj2" fmla="val 37507"/>
              <a:gd name="adj3" fmla="val 16667"/>
              <a:gd name="adj4" fmla="val 6666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3429000"/>
            <a:ext cx="1143000" cy="9144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1905120"/>
            <a:ext cx="2133720" cy="167616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Модул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одготовк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Arial"/>
              </a:rPr>
              <a:t>производст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10800000">
            <a:off x="2743200" y="1294920"/>
            <a:ext cx="914400" cy="685800"/>
          </a:xfrm>
          <a:prstGeom prst="downArrowCallout">
            <a:avLst>
              <a:gd name="adj1" fmla="val 33336"/>
              <a:gd name="adj2" fmla="val 33333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2286000"/>
            <a:ext cx="685800" cy="914400"/>
          </a:xfrm>
          <a:prstGeom prst="rightArrowCallout">
            <a:avLst>
              <a:gd name="adj1" fmla="val 33336"/>
              <a:gd name="adj2" fmla="val 33333"/>
              <a:gd name="adj3" fmla="val 16667"/>
              <a:gd name="adj4" fmla="val 6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5562720"/>
            <a:ext cx="1828800" cy="9144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АП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4952880"/>
            <a:ext cx="914400" cy="685800"/>
          </a:xfrm>
          <a:custGeom>
            <a:avLst/>
            <a:gdLst>
              <a:gd name="textAreaLeft" fmla="*/ 0 w 914400"/>
              <a:gd name="textAreaRight" fmla="*/ 914760 w 9144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29400" y="5562720"/>
            <a:ext cx="1752480" cy="914400"/>
          </a:xfrm>
          <a:prstGeom prst="rect">
            <a:avLst/>
          </a:prstGeom>
          <a:solidFill>
            <a:srgbClr val="000066"/>
          </a:solidFill>
          <a:ln w="7632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нешн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сте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6172200" y="4800600"/>
            <a:ext cx="914400" cy="838080"/>
          </a:xfrm>
          <a:custGeom>
            <a:avLst/>
            <a:gdLst>
              <a:gd name="textAreaLeft" fmla="*/ 360 w 914400"/>
              <a:gd name="textAreaRight" fmla="*/ 915120 w 9144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6400800" y="4800600"/>
            <a:ext cx="914400" cy="914400"/>
          </a:xfrm>
          <a:custGeom>
            <a:avLst/>
            <a:gdLst>
              <a:gd name="textAreaLeft" fmla="*/ 0 w 914400"/>
              <a:gd name="textAreaRight" fmla="*/ 914760 w 914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685800"/>
            <a:ext cx="9144000" cy="4648320"/>
          </a:xfrm>
          <a:prstGeom prst="rect">
            <a:avLst/>
          </a:prstGeom>
          <a:noFill/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91600" y="878040"/>
            <a:ext cx="11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А Т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5029200"/>
            <a:ext cx="914400" cy="685800"/>
          </a:xfrm>
          <a:prstGeom prst="downArrowCallout">
            <a:avLst>
              <a:gd name="adj1" fmla="val 33336"/>
              <a:gd name="adj2" fmla="val 33333"/>
              <a:gd name="adj3" fmla="val 16667"/>
              <a:gd name="adj4" fmla="val 66667"/>
            </a:avLst>
          </a:prstGeom>
          <a:solidFill>
            <a:srgbClr val="9ce157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d27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75240"/>
            <a:ext cx="5181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dd409"/>
                </a:solidFill>
                <a:latin typeface="Times New Roman"/>
              </a:rPr>
              <a:t>Пилотный проект.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0" y="2971800"/>
            <a:ext cx="5943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 период разработки и  опытной эксплуатации маршрута удалось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ценить надежность ПО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тработать безбумажную технологию работы с документ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Отработать универсальный алгоритм постановки документации на абонентский учет и получения ее в подразделения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838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Маршрут «Регистрация и рассылка конструкторских ИИ(ПИ)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1676520"/>
            <a:ext cx="762120" cy="761760"/>
          </a:xfrm>
          <a:prstGeom prst="ellipse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680" y="1828800"/>
            <a:ext cx="38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1600200"/>
            <a:ext cx="2057400" cy="914400"/>
          </a:xfrm>
          <a:prstGeom prst="rect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гистрация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в. ИИ в ОТ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981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581280" y="1600200"/>
            <a:ext cx="2210040" cy="914400"/>
          </a:xfrm>
          <a:prstGeom prst="rect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мещение 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ЭА Т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5880" y="1600200"/>
            <a:ext cx="1676520" cy="914400"/>
          </a:xfrm>
          <a:prstGeom prst="rect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ыл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бонент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1880" y="1371600"/>
            <a:ext cx="609840" cy="609480"/>
          </a:xfrm>
          <a:prstGeom prst="ellipse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381880" y="2286000"/>
            <a:ext cx="609840" cy="609480"/>
          </a:xfrm>
          <a:prstGeom prst="ellipse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б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153280" y="1828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38368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120" y="2057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057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2057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7772400" y="1676160"/>
            <a:ext cx="6094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772400" y="22860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77240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360" y="362268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9040" y="2951280"/>
            <a:ext cx="830592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ход на  электронную рассылку ИИ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 через ЭА ТД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зволил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остичь значительной экономии расходных матери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Исключив из процесса операции размножения и разноски копий, сократить число сотрудников, занятых в процессе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Автоматически формировать отчеты в различных разреза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00"/>
              </a:spcBef>
              <a:buClr>
                <a:srgbClr val="ffffff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делать «прозрачным» процесс отправки и получения документа  для всех участник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fdd409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dd409"/>
                </a:solidFill>
                <a:latin typeface="Times New Roman"/>
              </a:rPr>
              <a:t>Сократить срок доставки извещений в подраздел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>
            <a:hlinkClick r:id="rId1" action="ppaction://hlinksldjump"/>
          </p:cNvPr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6d274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75240"/>
            <a:ext cx="6781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одуль согласования ОР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"/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676520"/>
            <a:ext cx="762120" cy="761760"/>
          </a:xfrm>
          <a:prstGeom prst="ellipse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80" y="182880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Times New Roman"/>
              </a:rPr>
              <a:t>Ис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143000"/>
            <a:ext cx="2057400" cy="685800"/>
          </a:xfrm>
          <a:prstGeom prst="rect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9810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1280" y="1600200"/>
            <a:ext cx="2210040" cy="914400"/>
          </a:xfrm>
          <a:prstGeom prst="rect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твержде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5880" y="1600200"/>
            <a:ext cx="1676520" cy="914400"/>
          </a:xfrm>
          <a:prstGeom prst="rect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ассылк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бонента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8381880" y="1371600"/>
            <a:ext cx="609840" cy="609480"/>
          </a:xfrm>
          <a:prstGeom prst="ellipse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1880" y="2286000"/>
            <a:ext cx="609840" cy="609480"/>
          </a:xfrm>
          <a:prstGeom prst="ellipse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сп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38368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2057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05740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057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772400" y="1676160"/>
            <a:ext cx="60948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772400" y="2286000"/>
            <a:ext cx="60948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72400" y="2057400"/>
            <a:ext cx="609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143000" y="2362320"/>
            <a:ext cx="2057400" cy="685800"/>
          </a:xfrm>
          <a:prstGeom prst="rect">
            <a:avLst/>
          </a:prstGeom>
          <a:solidFill>
            <a:srgbClr val="fdb83b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Согласован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286000"/>
            <a:ext cx="4572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685800" y="1523520"/>
            <a:ext cx="4572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14479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3200400" y="2286000"/>
            <a:ext cx="3808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027160" y="18288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040" y="316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13840" y="3165480"/>
            <a:ext cx="659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ереход на электронное согласование позволил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2760" y="3699000"/>
            <a:ext cx="8626320" cy="19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контролировать документ уже на стадии согласования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автоматизировать операции регистрации и рассылк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ократить время согласования за счет применения схемы веерного обхода согласующих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сократить время на доставку копий распоряжений, приказов исполнителя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imes New Roman"/>
              </a:rPr>
              <a:t>достичь значительной экономии расходных матери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320" y="36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cc00"/>
                </a:solidFill>
                <a:latin typeface="Times New Roman"/>
              </a:rPr>
              <a:t>Модуль архива КД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96840" y="1746360"/>
            <a:ext cx="90471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редставлять данные о составе изделия  и КД в виде «дерева проект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ранить все версии конструкторского документ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ранить связи версий документа с ИИ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И, которым документ был внедрен в производств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ести абонентский учет выдачи копи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ести инвентарный учет К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ести картотеку КД, ИИ, П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лучать перечень и</a:t>
            </a: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или подборку документов для изготовления твердых копий при проведении изменени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лучать данные по полной применяемости чертеж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вести контроль исполнения проведения изменений в К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9920" y="990720"/>
            <a:ext cx="79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стройка структуры системы и набор отчетов позволяют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320" y="251280"/>
            <a:ext cx="6705360" cy="114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300" spc="-1" strike="noStrike">
                <a:solidFill>
                  <a:srgbClr val="ffcc00"/>
                </a:solidFill>
                <a:latin typeface="Times New Roman"/>
              </a:rPr>
              <a:t>Модуль хранения и</a:t>
            </a:r>
            <a:br>
              <a:rPr sz="4300"/>
            </a:br>
            <a:r>
              <a:rPr b="1" i="1" lang="ru-RU" sz="4300" spc="-1" strike="noStrike">
                <a:solidFill>
                  <a:srgbClr val="ffcc00"/>
                </a:solidFill>
                <a:latin typeface="Times New Roman"/>
              </a:rPr>
              <a:t> согласования ТД</a:t>
            </a:r>
            <a:endParaRPr b="0" lang="en-US" sz="43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8" name=""/>
          <p:cNvSpPr/>
          <p:nvPr/>
        </p:nvSpPr>
        <p:spPr>
          <a:xfrm>
            <a:off x="79200" y="304812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уль технологических данных позволяет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36440" y="3540240"/>
            <a:ext cx="9007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технологу обращаться к данным по составу изделия и КД для разработки технологической документ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мещать ТП(ТМ) в электронный архив в привязке к позициям издел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мещать в ЭА ТД  файлы ТП с диска в произвольном формат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помещать в ЭА ТД ТП непосредственно из САПР ТП Гепар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хранить все версии ТП(ТМ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отправлять ТД на согласование  в системе ЭА ТД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1828800"/>
            <a:ext cx="31240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одуль расшир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Технолог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1828800"/>
            <a:ext cx="32767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аршрут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«Согласование ТД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52680" y="19494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686800" y="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7493"/>
                </a:moveTo>
                <a:lnTo>
                  <a:pt x="9463" y="7493"/>
                </a:lnTo>
                <a:lnTo>
                  <a:pt x="9463" y="12828"/>
                </a:lnTo>
                <a:cubicBezTo>
                  <a:pt x="9463" y="13751"/>
                  <a:pt x="10264" y="14482"/>
                  <a:pt x="11300" y="14482"/>
                </a:cubicBezTo>
                <a:lnTo>
                  <a:pt x="12962" y="14482"/>
                </a:lnTo>
                <a:cubicBezTo>
                  <a:pt x="13998" y="14482"/>
                  <a:pt x="14799" y="13751"/>
                  <a:pt x="14799" y="12828"/>
                </a:cubicBezTo>
                <a:lnTo>
                  <a:pt x="14799" y="7493"/>
                </a:lnTo>
                <a:lnTo>
                  <a:pt x="12962" y="7493"/>
                </a:lnTo>
                <a:lnTo>
                  <a:pt x="16470" y="3985"/>
                </a:lnTo>
                <a:lnTo>
                  <a:pt x="20143" y="7493"/>
                </a:lnTo>
                <a:lnTo>
                  <a:pt x="18306" y="7493"/>
                </a:lnTo>
                <a:lnTo>
                  <a:pt x="18306" y="12828"/>
                </a:lnTo>
                <a:cubicBezTo>
                  <a:pt x="18306" y="15596"/>
                  <a:pt x="15730" y="18155"/>
                  <a:pt x="12962" y="18155"/>
                </a:cubicBezTo>
                <a:lnTo>
                  <a:pt x="11300" y="18155"/>
                </a:lnTo>
                <a:cubicBezTo>
                  <a:pt x="8532" y="18155"/>
                  <a:pt x="5956" y="15596"/>
                  <a:pt x="5956" y="12828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04-09-21T19:15:00Z</dcterms:modified>
  <cp:revision>155</cp:revision>
  <dc:subject/>
  <dc:title>PowerPoint Presentation</dc:title>
</cp:coreProperties>
</file>