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F5B-5EED-4A42-8BF9-7C8F68A8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929-D581-43A9-AB51-F3DAFDD5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52E-A53D-47C9-B518-9DA27F3D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097-BDD4-4950-AE45-DD8EDD37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9E1A-0A27-4ACC-8E41-31FA8208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5CBD-2264-4B33-A767-16688CF2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014E-F830-45DB-A588-176FC7B2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17E0-F4B1-4A1B-9290-D924A1CF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02A2-137F-4FB8-A274-3394B4E6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CFF9-078C-4364-8374-C7F6E450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D040-D9A7-40A6-AE45-E0ECFCD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27E-49C0-41A5-84C5-8B057933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DB86-302A-471B-9E9D-161C06E0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A16C-6424-41A5-96DF-8170AF7F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D802-B564-4463-8B9F-65513063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7086-2F8E-49D5-AAF3-61AB2CCD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8DF0-6945-4461-84A1-75F5CE0C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864-3B49-434F-9903-D854BE4A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4C4-8B64-4B8A-A353-F3FC8C1D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C30-344D-48D7-A894-2993F2DB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5CE-0E83-44E5-9492-ADD3C591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AC9-CC93-40E5-920B-064CC9B7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CD6-B929-4F97-8F3B-B84BBBA0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E12-AA40-45C2-B36A-3F67C76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DFF4-2E84-4992-8CF0-B231A6437B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3FC5-61B3-4D44-8853-4289FAF395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4114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f1f"/>
                </a:solidFill>
                <a:latin typeface="Garamond"/>
              </a:rPr>
              <a:t>Качество</a:t>
            </a:r>
            <a:br>
              <a:rPr sz="2800"/>
            </a:br>
            <a:r>
              <a:rPr b="1" lang="en-US" sz="2800" spc="-1" strike="noStrike">
                <a:solidFill>
                  <a:srgbClr val="ffbf1f"/>
                </a:solidFill>
                <a:latin typeface="Garamond"/>
              </a:rPr>
              <a:t>          стабильность</a:t>
            </a:r>
            <a:br>
              <a:rPr sz="2800"/>
            </a:br>
            <a:r>
              <a:rPr b="1" lang="en-US" sz="2800" spc="-1" strike="noStrike">
                <a:solidFill>
                  <a:srgbClr val="ffbf1f"/>
                </a:solidFill>
                <a:latin typeface="Garamond"/>
              </a:rPr>
              <a:t>                    новаторство</a:t>
            </a:r>
            <a:endParaRPr b="0" lang="en-US" sz="2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3048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Форма для охранных структу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Бронежилет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Камуфлированная одежд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Средства маскиров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Форма МВД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Форменные рубаш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Трикотаж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Головные убо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Разгрузочные жилет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Обув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Кожаная амуниц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Снаряж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Знаки различ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76720" y="2362320"/>
          <a:ext cx="586728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62320"/>
                    <a:ext cx="58672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5105520"/>
          <a:ext cx="380052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105520"/>
                    <a:ext cx="38005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62520" y="152280"/>
            <a:ext cx="333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481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f1f"/>
                </a:solidFill>
                <a:latin typeface="Garamond"/>
              </a:rPr>
              <a:t>Методология </a:t>
            </a:r>
            <a:r>
              <a:rPr b="1" lang="en-US" sz="3200" spc="-1" strike="noStrike">
                <a:solidFill>
                  <a:srgbClr val="ffbf1f"/>
                </a:solidFill>
                <a:latin typeface="Garamond"/>
              </a:rPr>
              <a:t>APS</a:t>
            </a:r>
            <a:r>
              <a:rPr b="1" lang="ru-RU" sz="3200" spc="-1" strike="noStrike">
                <a:solidFill>
                  <a:srgbClr val="ffbf1f"/>
                </a:solidFill>
                <a:latin typeface="Garamond"/>
              </a:rPr>
              <a:t> или усовершенствованное планирование</a:t>
            </a:r>
            <a:r>
              <a:rPr b="0" lang="ru-RU" sz="3200" spc="-1" strike="noStrike">
                <a:solidFill>
                  <a:srgbClr val="ffbf1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560" y="5229000"/>
            <a:ext cx="42498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spcBef>
                <a:spcPts val="400"/>
              </a:spcBef>
              <a:buClr>
                <a:srgbClr val="cc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bf1f"/>
                </a:solidFill>
                <a:latin typeface="Verdana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400"/>
              </a:spcBef>
              <a:buClr>
                <a:srgbClr val="cc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bf1f"/>
                </a:solidFill>
                <a:latin typeface="Verdana"/>
              </a:rPr>
              <a:t>снабжени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cc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bf1f"/>
                </a:solidFill>
                <a:latin typeface="Verdana"/>
              </a:rPr>
              <a:t>диспетчеризация производства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3059" r="0" b="19033"/>
          <a:stretch/>
        </p:blipFill>
        <p:spPr>
          <a:xfrm>
            <a:off x="179280" y="2060640"/>
            <a:ext cx="8713800" cy="295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68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 Cyr"/>
              </a:rPr>
              <a:t>Решаемые</a:t>
            </a: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 задачи</a:t>
            </a:r>
            <a:r>
              <a:rPr b="1" lang="en-US" sz="4000" spc="-1" strike="noStrike">
                <a:solidFill>
                  <a:srgbClr val="ffcc00"/>
                </a:solidFill>
                <a:latin typeface="Times New Roman Cyr"/>
              </a:rPr>
              <a:t> 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031840"/>
            <a:ext cx="8291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f1f"/>
                </a:solidFill>
                <a:latin typeface="Verdana"/>
              </a:rPr>
              <a:t>планирование потребностей в материалах (объемы закупок, сроки и размеры парти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f1f"/>
                </a:solidFill>
                <a:latin typeface="Verdana"/>
              </a:rPr>
              <a:t>управление запасами и закупочной деятельность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f1f"/>
                </a:solidFill>
                <a:latin typeface="Verdana"/>
              </a:rPr>
              <a:t>оптимизация складских запас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f1f"/>
                </a:solidFill>
                <a:latin typeface="Verdana"/>
              </a:rPr>
              <a:t>оптимизация выбора предприятия для размещения зака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5834160"/>
            <a:ext cx="822960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bf1f"/>
                </a:solidFill>
                <a:uFillTx/>
                <a:latin typeface="Garamond"/>
              </a:rPr>
              <a:t>Расчет потребности материалов</a:t>
            </a:r>
            <a:br>
              <a:rPr sz="4000"/>
            </a:b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 Cyr"/>
              </a:rPr>
              <a:t>решаемые задач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6491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bf1f"/>
                </a:solidFill>
                <a:uFillTx/>
                <a:latin typeface="Garamond"/>
              </a:rPr>
              <a:t>Плановая себестоимость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f1f"/>
                </a:solidFill>
                <a:latin typeface="Garamond"/>
              </a:rPr>
              <a:t>Идеология </a:t>
            </a: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RM</a:t>
            </a:r>
            <a:r>
              <a:rPr b="0" lang="ru-RU" sz="4400" spc="-1" strike="noStrike">
                <a:solidFill>
                  <a:srgbClr val="ffbf1f"/>
                </a:solidFill>
                <a:latin typeface="Garamond"/>
              </a:rPr>
              <a:t> или Управление</a:t>
            </a:r>
            <a:r>
              <a:rPr b="0" lang="ru-RU" sz="4400" spc="-1" strike="noStrike">
                <a:solidFill>
                  <a:srgbClr val="ffbf1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bf1f"/>
                </a:solidFill>
                <a:latin typeface="Garamond"/>
              </a:rPr>
              <a:t>отношений</a:t>
            </a:r>
            <a:r>
              <a:rPr b="0" lang="ru-RU" sz="4400" spc="-1" strike="noStrike">
                <a:solidFill>
                  <a:srgbClr val="ffbf1f"/>
                </a:solidFill>
                <a:latin typeface="Garamond"/>
              </a:rPr>
              <a:t> с </a:t>
            </a:r>
            <a:r>
              <a:rPr b="0" lang="ru-RU" sz="4400" spc="-1" strike="noStrike">
                <a:solidFill>
                  <a:srgbClr val="ffbf1f"/>
                </a:solidFill>
                <a:latin typeface="Garamond"/>
              </a:rPr>
              <a:t>поставщиками</a:t>
            </a:r>
            <a:r>
              <a:rPr b="0" lang="ru-RU" sz="4000" spc="-1" strike="noStrike">
                <a:solidFill>
                  <a:srgbClr val="ffbf1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957744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ведение договор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схема закупо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история взаимоотношений с поставщик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контроль действий персонала, работающего с поставщикам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f1f"/>
                </a:solidFill>
                <a:latin typeface="Garamond"/>
              </a:rPr>
              <a:t>Управление инцидентами и проблемами</a:t>
            </a:r>
            <a:endParaRPr b="0" lang="en-US" sz="3200" spc="-1" strike="noStrike">
              <a:solidFill>
                <a:srgbClr val="ffbf1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600200"/>
            <a:ext cx="770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4114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f1f"/>
                </a:solidFill>
                <a:latin typeface="Garamond"/>
              </a:rPr>
              <a:t>Качество</a:t>
            </a:r>
            <a:br>
              <a:rPr sz="2800"/>
            </a:br>
            <a:r>
              <a:rPr b="1" lang="en-US" sz="2800" spc="-1" strike="noStrike">
                <a:solidFill>
                  <a:srgbClr val="ffbf1f"/>
                </a:solidFill>
                <a:latin typeface="Garamond"/>
              </a:rPr>
              <a:t>          стабильность</a:t>
            </a:r>
            <a:br>
              <a:rPr sz="2800"/>
            </a:br>
            <a:r>
              <a:rPr b="1" lang="en-US" sz="2800" spc="-1" strike="noStrike">
                <a:solidFill>
                  <a:srgbClr val="ffbf1f"/>
                </a:solidFill>
                <a:latin typeface="Garamond"/>
              </a:rPr>
              <a:t>                    новаторство</a:t>
            </a:r>
            <a:endParaRPr b="0" lang="en-US" sz="2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3048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Форма для охранных структу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Бронежилет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Камуфлированная одежд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Средства маскиров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Форма МВД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Форменные рубаш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Трикотаж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Головные убо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Разгрузочные жилет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Обув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Кожаная амуниц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Снаряж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Знаки различ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76720" y="2514600"/>
          <a:ext cx="5867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14600"/>
                    <a:ext cx="58672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04920" y="5105520"/>
          <a:ext cx="380052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105520"/>
                    <a:ext cx="38005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962520" y="152280"/>
            <a:ext cx="333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9:25:54Z</dcterms:created>
  <dc:creator>7</dc:creator>
  <dc:description/>
  <dc:language>en-US</dc:language>
  <cp:lastModifiedBy>Паршукова</cp:lastModifiedBy>
  <dcterms:modified xsi:type="dcterms:W3CDTF">2004-09-23T13:52:54Z</dcterms:modified>
  <cp:revision>17</cp:revision>
  <dc:subject/>
  <dc:title>Слайд 1</dc:title>
</cp:coreProperties>
</file>